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523880" y="1295280"/>
            <a:ext cx="5791320" cy="3278160"/>
            <a:chOff x="1523880" y="1295280"/>
            <a:chExt cx="5791320" cy="3278160"/>
          </a:xfrm>
        </p:grpSpPr>
        <p:sp>
          <p:nvSpPr>
            <p:cNvPr id="41" name=""/>
            <p:cNvSpPr/>
            <p:nvPr/>
          </p:nvSpPr>
          <p:spPr>
            <a:xfrm>
              <a:off x="1523880" y="1442880"/>
              <a:ext cx="1236960" cy="3070440"/>
            </a:xfrm>
            <a:custGeom>
              <a:avLst/>
              <a:gdLst/>
              <a:ahLst/>
              <a:rect l="l" t="t" r="r" b="b"/>
              <a:pathLst>
                <a:path w="3437" h="8527">
                  <a:moveTo>
                    <a:pt x="943" y="3953"/>
                  </a:moveTo>
                  <a:lnTo>
                    <a:pt x="2492" y="3953"/>
                  </a:lnTo>
                  <a:lnTo>
                    <a:pt x="2492" y="1514"/>
                  </a:lnTo>
                  <a:lnTo>
                    <a:pt x="2486" y="1211"/>
                  </a:lnTo>
                  <a:lnTo>
                    <a:pt x="2480" y="969"/>
                  </a:lnTo>
                  <a:lnTo>
                    <a:pt x="2474" y="787"/>
                  </a:lnTo>
                  <a:lnTo>
                    <a:pt x="2462" y="666"/>
                  </a:lnTo>
                  <a:lnTo>
                    <a:pt x="2445" y="575"/>
                  </a:lnTo>
                  <a:lnTo>
                    <a:pt x="2421" y="500"/>
                  </a:lnTo>
                  <a:lnTo>
                    <a:pt x="2392" y="424"/>
                  </a:lnTo>
                  <a:lnTo>
                    <a:pt x="2356" y="379"/>
                  </a:lnTo>
                  <a:lnTo>
                    <a:pt x="2303" y="303"/>
                  </a:lnTo>
                  <a:lnTo>
                    <a:pt x="2248" y="257"/>
                  </a:lnTo>
                  <a:lnTo>
                    <a:pt x="2190" y="227"/>
                  </a:lnTo>
                  <a:lnTo>
                    <a:pt x="2136" y="227"/>
                  </a:lnTo>
                  <a:lnTo>
                    <a:pt x="2018" y="227"/>
                  </a:lnTo>
                  <a:lnTo>
                    <a:pt x="2018" y="0"/>
                  </a:lnTo>
                  <a:lnTo>
                    <a:pt x="3436" y="0"/>
                  </a:lnTo>
                  <a:lnTo>
                    <a:pt x="3436" y="227"/>
                  </a:lnTo>
                  <a:lnTo>
                    <a:pt x="3317" y="227"/>
                  </a:lnTo>
                  <a:lnTo>
                    <a:pt x="3258" y="227"/>
                  </a:lnTo>
                  <a:lnTo>
                    <a:pt x="3198" y="257"/>
                  </a:lnTo>
                  <a:lnTo>
                    <a:pt x="3145" y="303"/>
                  </a:lnTo>
                  <a:lnTo>
                    <a:pt x="3097" y="363"/>
                  </a:lnTo>
                  <a:lnTo>
                    <a:pt x="3056" y="409"/>
                  </a:lnTo>
                  <a:lnTo>
                    <a:pt x="3026" y="485"/>
                  </a:lnTo>
                  <a:lnTo>
                    <a:pt x="3002" y="575"/>
                  </a:lnTo>
                  <a:lnTo>
                    <a:pt x="2991" y="681"/>
                  </a:lnTo>
                  <a:lnTo>
                    <a:pt x="2973" y="803"/>
                  </a:lnTo>
                  <a:lnTo>
                    <a:pt x="2967" y="984"/>
                  </a:lnTo>
                  <a:lnTo>
                    <a:pt x="2961" y="1227"/>
                  </a:lnTo>
                  <a:lnTo>
                    <a:pt x="2961" y="1514"/>
                  </a:lnTo>
                  <a:lnTo>
                    <a:pt x="2961" y="7012"/>
                  </a:lnTo>
                  <a:lnTo>
                    <a:pt x="2961" y="7300"/>
                  </a:lnTo>
                  <a:lnTo>
                    <a:pt x="2967" y="7542"/>
                  </a:lnTo>
                  <a:lnTo>
                    <a:pt x="2973" y="7724"/>
                  </a:lnTo>
                  <a:lnTo>
                    <a:pt x="2991" y="7875"/>
                  </a:lnTo>
                  <a:lnTo>
                    <a:pt x="3002" y="7951"/>
                  </a:lnTo>
                  <a:lnTo>
                    <a:pt x="3026" y="8011"/>
                  </a:lnTo>
                  <a:lnTo>
                    <a:pt x="3050" y="8087"/>
                  </a:lnTo>
                  <a:lnTo>
                    <a:pt x="3092" y="8148"/>
                  </a:lnTo>
                  <a:lnTo>
                    <a:pt x="3145" y="8208"/>
                  </a:lnTo>
                  <a:lnTo>
                    <a:pt x="3198" y="8254"/>
                  </a:lnTo>
                  <a:lnTo>
                    <a:pt x="3258" y="8284"/>
                  </a:lnTo>
                  <a:lnTo>
                    <a:pt x="3317" y="8299"/>
                  </a:lnTo>
                  <a:lnTo>
                    <a:pt x="3436" y="8299"/>
                  </a:lnTo>
                  <a:lnTo>
                    <a:pt x="3436" y="8526"/>
                  </a:lnTo>
                  <a:lnTo>
                    <a:pt x="2018" y="8526"/>
                  </a:lnTo>
                  <a:lnTo>
                    <a:pt x="2018" y="8299"/>
                  </a:lnTo>
                  <a:lnTo>
                    <a:pt x="2136" y="8299"/>
                  </a:lnTo>
                  <a:lnTo>
                    <a:pt x="2225" y="8269"/>
                  </a:lnTo>
                  <a:lnTo>
                    <a:pt x="2308" y="8208"/>
                  </a:lnTo>
                  <a:lnTo>
                    <a:pt x="2373" y="8117"/>
                  </a:lnTo>
                  <a:lnTo>
                    <a:pt x="2433" y="7996"/>
                  </a:lnTo>
                  <a:lnTo>
                    <a:pt x="2457" y="7845"/>
                  </a:lnTo>
                  <a:lnTo>
                    <a:pt x="2474" y="7633"/>
                  </a:lnTo>
                  <a:lnTo>
                    <a:pt x="2486" y="7345"/>
                  </a:lnTo>
                  <a:lnTo>
                    <a:pt x="2492" y="7012"/>
                  </a:lnTo>
                  <a:lnTo>
                    <a:pt x="2492" y="4422"/>
                  </a:lnTo>
                  <a:lnTo>
                    <a:pt x="943" y="4422"/>
                  </a:lnTo>
                  <a:lnTo>
                    <a:pt x="943" y="7012"/>
                  </a:lnTo>
                  <a:lnTo>
                    <a:pt x="943" y="7300"/>
                  </a:lnTo>
                  <a:lnTo>
                    <a:pt x="950" y="7542"/>
                  </a:lnTo>
                  <a:lnTo>
                    <a:pt x="955" y="7724"/>
                  </a:lnTo>
                  <a:lnTo>
                    <a:pt x="973" y="7875"/>
                  </a:lnTo>
                  <a:lnTo>
                    <a:pt x="985" y="7951"/>
                  </a:lnTo>
                  <a:lnTo>
                    <a:pt x="1008" y="8011"/>
                  </a:lnTo>
                  <a:lnTo>
                    <a:pt x="1039" y="8087"/>
                  </a:lnTo>
                  <a:lnTo>
                    <a:pt x="1080" y="8148"/>
                  </a:lnTo>
                  <a:lnTo>
                    <a:pt x="1127" y="8208"/>
                  </a:lnTo>
                  <a:lnTo>
                    <a:pt x="1181" y="8254"/>
                  </a:lnTo>
                  <a:lnTo>
                    <a:pt x="1240" y="8284"/>
                  </a:lnTo>
                  <a:lnTo>
                    <a:pt x="1300" y="8299"/>
                  </a:lnTo>
                  <a:lnTo>
                    <a:pt x="1418" y="8299"/>
                  </a:lnTo>
                  <a:lnTo>
                    <a:pt x="1418" y="8526"/>
                  </a:lnTo>
                  <a:lnTo>
                    <a:pt x="0" y="8526"/>
                  </a:lnTo>
                  <a:lnTo>
                    <a:pt x="0" y="8299"/>
                  </a:lnTo>
                  <a:lnTo>
                    <a:pt x="118" y="8299"/>
                  </a:lnTo>
                  <a:lnTo>
                    <a:pt x="208" y="8269"/>
                  </a:lnTo>
                  <a:lnTo>
                    <a:pt x="290" y="8208"/>
                  </a:lnTo>
                  <a:lnTo>
                    <a:pt x="356" y="8117"/>
                  </a:lnTo>
                  <a:lnTo>
                    <a:pt x="415" y="7996"/>
                  </a:lnTo>
                  <a:lnTo>
                    <a:pt x="439" y="7845"/>
                  </a:lnTo>
                  <a:lnTo>
                    <a:pt x="456" y="7633"/>
                  </a:lnTo>
                  <a:lnTo>
                    <a:pt x="468" y="7345"/>
                  </a:lnTo>
                  <a:lnTo>
                    <a:pt x="475" y="7012"/>
                  </a:lnTo>
                  <a:lnTo>
                    <a:pt x="475" y="1514"/>
                  </a:lnTo>
                  <a:lnTo>
                    <a:pt x="468" y="1211"/>
                  </a:lnTo>
                  <a:lnTo>
                    <a:pt x="463" y="969"/>
                  </a:lnTo>
                  <a:lnTo>
                    <a:pt x="456" y="787"/>
                  </a:lnTo>
                  <a:lnTo>
                    <a:pt x="444" y="666"/>
                  </a:lnTo>
                  <a:lnTo>
                    <a:pt x="427" y="575"/>
                  </a:lnTo>
                  <a:lnTo>
                    <a:pt x="403" y="500"/>
                  </a:lnTo>
                  <a:lnTo>
                    <a:pt x="379" y="424"/>
                  </a:lnTo>
                  <a:lnTo>
                    <a:pt x="344" y="379"/>
                  </a:lnTo>
                  <a:lnTo>
                    <a:pt x="285" y="303"/>
                  </a:lnTo>
                  <a:lnTo>
                    <a:pt x="231" y="257"/>
                  </a:lnTo>
                  <a:lnTo>
                    <a:pt x="172" y="227"/>
                  </a:lnTo>
                  <a:lnTo>
                    <a:pt x="118" y="227"/>
                  </a:lnTo>
                  <a:lnTo>
                    <a:pt x="0" y="227"/>
                  </a:lnTo>
                  <a:lnTo>
                    <a:pt x="0" y="0"/>
                  </a:lnTo>
                  <a:lnTo>
                    <a:pt x="1418" y="0"/>
                  </a:lnTo>
                  <a:lnTo>
                    <a:pt x="1418" y="227"/>
                  </a:lnTo>
                  <a:lnTo>
                    <a:pt x="1300" y="227"/>
                  </a:lnTo>
                  <a:lnTo>
                    <a:pt x="1240" y="227"/>
                  </a:lnTo>
                  <a:lnTo>
                    <a:pt x="1181" y="257"/>
                  </a:lnTo>
                  <a:lnTo>
                    <a:pt x="1127" y="303"/>
                  </a:lnTo>
                  <a:lnTo>
                    <a:pt x="1080" y="363"/>
                  </a:lnTo>
                  <a:lnTo>
                    <a:pt x="1039" y="409"/>
                  </a:lnTo>
                  <a:lnTo>
                    <a:pt x="1008" y="485"/>
                  </a:lnTo>
                  <a:lnTo>
                    <a:pt x="985" y="575"/>
                  </a:lnTo>
                  <a:lnTo>
                    <a:pt x="973" y="681"/>
                  </a:lnTo>
                  <a:lnTo>
                    <a:pt x="955" y="803"/>
                  </a:lnTo>
                  <a:lnTo>
                    <a:pt x="950" y="984"/>
                  </a:lnTo>
                  <a:lnTo>
                    <a:pt x="943" y="1227"/>
                  </a:lnTo>
                  <a:lnTo>
                    <a:pt x="943" y="1514"/>
                  </a:lnTo>
                  <a:lnTo>
                    <a:pt x="943" y="3953"/>
                  </a:lnTo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852640" y="1295280"/>
              <a:ext cx="405000" cy="3216240"/>
            </a:xfrm>
            <a:custGeom>
              <a:avLst/>
              <a:gdLst/>
              <a:ahLst/>
              <a:rect l="l" t="t" r="r" b="b"/>
              <a:pathLst>
                <a:path w="1123" h="8936">
                  <a:moveTo>
                    <a:pt x="790" y="3014"/>
                  </a:moveTo>
                  <a:lnTo>
                    <a:pt x="790" y="7618"/>
                  </a:lnTo>
                  <a:lnTo>
                    <a:pt x="790" y="7860"/>
                  </a:lnTo>
                  <a:lnTo>
                    <a:pt x="796" y="8057"/>
                  </a:lnTo>
                  <a:lnTo>
                    <a:pt x="802" y="8239"/>
                  </a:lnTo>
                  <a:lnTo>
                    <a:pt x="820" y="8345"/>
                  </a:lnTo>
                  <a:lnTo>
                    <a:pt x="832" y="8420"/>
                  </a:lnTo>
                  <a:lnTo>
                    <a:pt x="856" y="8496"/>
                  </a:lnTo>
                  <a:lnTo>
                    <a:pt x="879" y="8557"/>
                  </a:lnTo>
                  <a:lnTo>
                    <a:pt x="909" y="8617"/>
                  </a:lnTo>
                  <a:lnTo>
                    <a:pt x="945" y="8648"/>
                  </a:lnTo>
                  <a:lnTo>
                    <a:pt x="991" y="8678"/>
                  </a:lnTo>
                  <a:lnTo>
                    <a:pt x="1051" y="8693"/>
                  </a:lnTo>
                  <a:lnTo>
                    <a:pt x="1122" y="8708"/>
                  </a:lnTo>
                  <a:lnTo>
                    <a:pt x="1122" y="8935"/>
                  </a:lnTo>
                  <a:lnTo>
                    <a:pt x="36" y="8935"/>
                  </a:lnTo>
                  <a:lnTo>
                    <a:pt x="36" y="8708"/>
                  </a:lnTo>
                  <a:lnTo>
                    <a:pt x="108" y="8693"/>
                  </a:lnTo>
                  <a:lnTo>
                    <a:pt x="173" y="8678"/>
                  </a:lnTo>
                  <a:lnTo>
                    <a:pt x="220" y="8648"/>
                  </a:lnTo>
                  <a:lnTo>
                    <a:pt x="262" y="8617"/>
                  </a:lnTo>
                  <a:lnTo>
                    <a:pt x="286" y="8572"/>
                  </a:lnTo>
                  <a:lnTo>
                    <a:pt x="309" y="8511"/>
                  </a:lnTo>
                  <a:lnTo>
                    <a:pt x="327" y="8436"/>
                  </a:lnTo>
                  <a:lnTo>
                    <a:pt x="351" y="8345"/>
                  </a:lnTo>
                  <a:lnTo>
                    <a:pt x="363" y="8224"/>
                  </a:lnTo>
                  <a:lnTo>
                    <a:pt x="369" y="8057"/>
                  </a:lnTo>
                  <a:lnTo>
                    <a:pt x="374" y="7845"/>
                  </a:lnTo>
                  <a:lnTo>
                    <a:pt x="381" y="7618"/>
                  </a:lnTo>
                  <a:lnTo>
                    <a:pt x="381" y="5422"/>
                  </a:lnTo>
                  <a:lnTo>
                    <a:pt x="374" y="4983"/>
                  </a:lnTo>
                  <a:lnTo>
                    <a:pt x="374" y="4649"/>
                  </a:lnTo>
                  <a:lnTo>
                    <a:pt x="363" y="4377"/>
                  </a:lnTo>
                  <a:lnTo>
                    <a:pt x="357" y="4210"/>
                  </a:lnTo>
                  <a:lnTo>
                    <a:pt x="345" y="4104"/>
                  </a:lnTo>
                  <a:lnTo>
                    <a:pt x="333" y="4029"/>
                  </a:lnTo>
                  <a:lnTo>
                    <a:pt x="315" y="3953"/>
                  </a:lnTo>
                  <a:lnTo>
                    <a:pt x="303" y="3922"/>
                  </a:lnTo>
                  <a:lnTo>
                    <a:pt x="280" y="3877"/>
                  </a:lnTo>
                  <a:lnTo>
                    <a:pt x="256" y="3862"/>
                  </a:lnTo>
                  <a:lnTo>
                    <a:pt x="232" y="3847"/>
                  </a:lnTo>
                  <a:lnTo>
                    <a:pt x="202" y="3847"/>
                  </a:lnTo>
                  <a:lnTo>
                    <a:pt x="161" y="3847"/>
                  </a:lnTo>
                  <a:lnTo>
                    <a:pt x="125" y="3862"/>
                  </a:lnTo>
                  <a:lnTo>
                    <a:pt x="77" y="3892"/>
                  </a:lnTo>
                  <a:lnTo>
                    <a:pt x="36" y="3938"/>
                  </a:lnTo>
                  <a:lnTo>
                    <a:pt x="0" y="3710"/>
                  </a:lnTo>
                  <a:lnTo>
                    <a:pt x="683" y="3014"/>
                  </a:lnTo>
                  <a:lnTo>
                    <a:pt x="790" y="3014"/>
                  </a:lnTo>
                  <a:close/>
                  <a:moveTo>
                    <a:pt x="583" y="0"/>
                  </a:moveTo>
                  <a:lnTo>
                    <a:pt x="629" y="0"/>
                  </a:lnTo>
                  <a:lnTo>
                    <a:pt x="677" y="45"/>
                  </a:lnTo>
                  <a:lnTo>
                    <a:pt x="719" y="91"/>
                  </a:lnTo>
                  <a:lnTo>
                    <a:pt x="760" y="182"/>
                  </a:lnTo>
                  <a:lnTo>
                    <a:pt x="790" y="273"/>
                  </a:lnTo>
                  <a:lnTo>
                    <a:pt x="814" y="379"/>
                  </a:lnTo>
                  <a:lnTo>
                    <a:pt x="825" y="500"/>
                  </a:lnTo>
                  <a:lnTo>
                    <a:pt x="832" y="636"/>
                  </a:lnTo>
                  <a:lnTo>
                    <a:pt x="825" y="757"/>
                  </a:lnTo>
                  <a:lnTo>
                    <a:pt x="814" y="863"/>
                  </a:lnTo>
                  <a:lnTo>
                    <a:pt x="790" y="984"/>
                  </a:lnTo>
                  <a:lnTo>
                    <a:pt x="760" y="1090"/>
                  </a:lnTo>
                  <a:lnTo>
                    <a:pt x="719" y="1166"/>
                  </a:lnTo>
                  <a:lnTo>
                    <a:pt x="677" y="1227"/>
                  </a:lnTo>
                  <a:lnTo>
                    <a:pt x="629" y="1272"/>
                  </a:lnTo>
                  <a:lnTo>
                    <a:pt x="583" y="1287"/>
                  </a:lnTo>
                  <a:lnTo>
                    <a:pt x="528" y="1272"/>
                  </a:lnTo>
                  <a:lnTo>
                    <a:pt x="487" y="1227"/>
                  </a:lnTo>
                  <a:lnTo>
                    <a:pt x="446" y="1166"/>
                  </a:lnTo>
                  <a:lnTo>
                    <a:pt x="410" y="1090"/>
                  </a:lnTo>
                  <a:lnTo>
                    <a:pt x="374" y="984"/>
                  </a:lnTo>
                  <a:lnTo>
                    <a:pt x="351" y="863"/>
                  </a:lnTo>
                  <a:lnTo>
                    <a:pt x="333" y="757"/>
                  </a:lnTo>
                  <a:lnTo>
                    <a:pt x="333" y="636"/>
                  </a:lnTo>
                  <a:lnTo>
                    <a:pt x="333" y="500"/>
                  </a:lnTo>
                  <a:lnTo>
                    <a:pt x="351" y="379"/>
                  </a:lnTo>
                  <a:lnTo>
                    <a:pt x="369" y="273"/>
                  </a:lnTo>
                  <a:lnTo>
                    <a:pt x="405" y="182"/>
                  </a:lnTo>
                  <a:lnTo>
                    <a:pt x="440" y="91"/>
                  </a:lnTo>
                  <a:lnTo>
                    <a:pt x="482" y="45"/>
                  </a:lnTo>
                  <a:lnTo>
                    <a:pt x="528" y="0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89400" y="2379600"/>
              <a:ext cx="550800" cy="2192400"/>
            </a:xfrm>
            <a:custGeom>
              <a:avLst/>
              <a:gdLst/>
              <a:ahLst/>
              <a:rect l="l" t="t" r="r" b="b"/>
              <a:pathLst>
                <a:path w="1532" h="6089">
                  <a:moveTo>
                    <a:pt x="1365" y="0"/>
                  </a:moveTo>
                  <a:lnTo>
                    <a:pt x="1365" y="1953"/>
                  </a:lnTo>
                  <a:lnTo>
                    <a:pt x="1276" y="1953"/>
                  </a:lnTo>
                  <a:lnTo>
                    <a:pt x="1223" y="1514"/>
                  </a:lnTo>
                  <a:lnTo>
                    <a:pt x="1169" y="1166"/>
                  </a:lnTo>
                  <a:lnTo>
                    <a:pt x="1110" y="893"/>
                  </a:lnTo>
                  <a:lnTo>
                    <a:pt x="1044" y="696"/>
                  </a:lnTo>
                  <a:lnTo>
                    <a:pt x="962" y="545"/>
                  </a:lnTo>
                  <a:lnTo>
                    <a:pt x="878" y="439"/>
                  </a:lnTo>
                  <a:lnTo>
                    <a:pt x="777" y="378"/>
                  </a:lnTo>
                  <a:lnTo>
                    <a:pt x="677" y="363"/>
                  </a:lnTo>
                  <a:lnTo>
                    <a:pt x="593" y="363"/>
                  </a:lnTo>
                  <a:lnTo>
                    <a:pt x="523" y="409"/>
                  </a:lnTo>
                  <a:lnTo>
                    <a:pt x="458" y="484"/>
                  </a:lnTo>
                  <a:lnTo>
                    <a:pt x="403" y="590"/>
                  </a:lnTo>
                  <a:lnTo>
                    <a:pt x="357" y="712"/>
                  </a:lnTo>
                  <a:lnTo>
                    <a:pt x="321" y="833"/>
                  </a:lnTo>
                  <a:lnTo>
                    <a:pt x="303" y="969"/>
                  </a:lnTo>
                  <a:lnTo>
                    <a:pt x="297" y="1105"/>
                  </a:lnTo>
                  <a:lnTo>
                    <a:pt x="297" y="1272"/>
                  </a:lnTo>
                  <a:lnTo>
                    <a:pt x="314" y="1423"/>
                  </a:lnTo>
                  <a:lnTo>
                    <a:pt x="338" y="1575"/>
                  </a:lnTo>
                  <a:lnTo>
                    <a:pt x="374" y="1711"/>
                  </a:lnTo>
                  <a:lnTo>
                    <a:pt x="415" y="1832"/>
                  </a:lnTo>
                  <a:lnTo>
                    <a:pt x="480" y="1969"/>
                  </a:lnTo>
                  <a:lnTo>
                    <a:pt x="570" y="2105"/>
                  </a:lnTo>
                  <a:lnTo>
                    <a:pt x="677" y="2256"/>
                  </a:lnTo>
                  <a:lnTo>
                    <a:pt x="1032" y="2696"/>
                  </a:lnTo>
                  <a:lnTo>
                    <a:pt x="1247" y="3014"/>
                  </a:lnTo>
                  <a:lnTo>
                    <a:pt x="1406" y="3407"/>
                  </a:lnTo>
                  <a:lnTo>
                    <a:pt x="1495" y="3831"/>
                  </a:lnTo>
                  <a:lnTo>
                    <a:pt x="1531" y="4331"/>
                  </a:lnTo>
                  <a:lnTo>
                    <a:pt x="1513" y="4695"/>
                  </a:lnTo>
                  <a:lnTo>
                    <a:pt x="1471" y="5028"/>
                  </a:lnTo>
                  <a:lnTo>
                    <a:pt x="1401" y="5346"/>
                  </a:lnTo>
                  <a:lnTo>
                    <a:pt x="1305" y="5603"/>
                  </a:lnTo>
                  <a:lnTo>
                    <a:pt x="1181" y="5800"/>
                  </a:lnTo>
                  <a:lnTo>
                    <a:pt x="1056" y="5952"/>
                  </a:lnTo>
                  <a:lnTo>
                    <a:pt x="926" y="6043"/>
                  </a:lnTo>
                  <a:lnTo>
                    <a:pt x="789" y="6088"/>
                  </a:lnTo>
                  <a:lnTo>
                    <a:pt x="683" y="6058"/>
                  </a:lnTo>
                  <a:lnTo>
                    <a:pt x="564" y="6027"/>
                  </a:lnTo>
                  <a:lnTo>
                    <a:pt x="446" y="5967"/>
                  </a:lnTo>
                  <a:lnTo>
                    <a:pt x="321" y="5906"/>
                  </a:lnTo>
                  <a:lnTo>
                    <a:pt x="279" y="5876"/>
                  </a:lnTo>
                  <a:lnTo>
                    <a:pt x="244" y="5846"/>
                  </a:lnTo>
                  <a:lnTo>
                    <a:pt x="214" y="5846"/>
                  </a:lnTo>
                  <a:lnTo>
                    <a:pt x="190" y="5846"/>
                  </a:lnTo>
                  <a:lnTo>
                    <a:pt x="160" y="5846"/>
                  </a:lnTo>
                  <a:lnTo>
                    <a:pt x="137" y="5876"/>
                  </a:lnTo>
                  <a:lnTo>
                    <a:pt x="113" y="5921"/>
                  </a:lnTo>
                  <a:lnTo>
                    <a:pt x="101" y="5997"/>
                  </a:lnTo>
                  <a:lnTo>
                    <a:pt x="12" y="5997"/>
                  </a:lnTo>
                  <a:lnTo>
                    <a:pt x="12" y="3937"/>
                  </a:lnTo>
                  <a:lnTo>
                    <a:pt x="101" y="3937"/>
                  </a:lnTo>
                  <a:lnTo>
                    <a:pt x="137" y="4346"/>
                  </a:lnTo>
                  <a:lnTo>
                    <a:pt x="196" y="4710"/>
                  </a:lnTo>
                  <a:lnTo>
                    <a:pt x="267" y="4998"/>
                  </a:lnTo>
                  <a:lnTo>
                    <a:pt x="362" y="5270"/>
                  </a:lnTo>
                  <a:lnTo>
                    <a:pt x="458" y="5467"/>
                  </a:lnTo>
                  <a:lnTo>
                    <a:pt x="558" y="5603"/>
                  </a:lnTo>
                  <a:lnTo>
                    <a:pt x="671" y="5694"/>
                  </a:lnTo>
                  <a:lnTo>
                    <a:pt x="789" y="5725"/>
                  </a:lnTo>
                  <a:lnTo>
                    <a:pt x="866" y="5694"/>
                  </a:lnTo>
                  <a:lnTo>
                    <a:pt x="938" y="5649"/>
                  </a:lnTo>
                  <a:lnTo>
                    <a:pt x="1003" y="5573"/>
                  </a:lnTo>
                  <a:lnTo>
                    <a:pt x="1062" y="5467"/>
                  </a:lnTo>
                  <a:lnTo>
                    <a:pt x="1104" y="5331"/>
                  </a:lnTo>
                  <a:lnTo>
                    <a:pt x="1139" y="5164"/>
                  </a:lnTo>
                  <a:lnTo>
                    <a:pt x="1157" y="5013"/>
                  </a:lnTo>
                  <a:lnTo>
                    <a:pt x="1169" y="4846"/>
                  </a:lnTo>
                  <a:lnTo>
                    <a:pt x="1157" y="4634"/>
                  </a:lnTo>
                  <a:lnTo>
                    <a:pt x="1134" y="4437"/>
                  </a:lnTo>
                  <a:lnTo>
                    <a:pt x="1098" y="4255"/>
                  </a:lnTo>
                  <a:lnTo>
                    <a:pt x="1051" y="4104"/>
                  </a:lnTo>
                  <a:lnTo>
                    <a:pt x="974" y="3937"/>
                  </a:lnTo>
                  <a:lnTo>
                    <a:pt x="873" y="3771"/>
                  </a:lnTo>
                  <a:lnTo>
                    <a:pt x="736" y="3574"/>
                  </a:lnTo>
                  <a:lnTo>
                    <a:pt x="576" y="3362"/>
                  </a:lnTo>
                  <a:lnTo>
                    <a:pt x="410" y="3135"/>
                  </a:lnTo>
                  <a:lnTo>
                    <a:pt x="279" y="2938"/>
                  </a:lnTo>
                  <a:lnTo>
                    <a:pt x="178" y="2741"/>
                  </a:lnTo>
                  <a:lnTo>
                    <a:pt x="113" y="2559"/>
                  </a:lnTo>
                  <a:lnTo>
                    <a:pt x="60" y="2362"/>
                  </a:lnTo>
                  <a:lnTo>
                    <a:pt x="24" y="2150"/>
                  </a:lnTo>
                  <a:lnTo>
                    <a:pt x="6" y="1908"/>
                  </a:lnTo>
                  <a:lnTo>
                    <a:pt x="0" y="1666"/>
                  </a:lnTo>
                  <a:lnTo>
                    <a:pt x="12" y="1317"/>
                  </a:lnTo>
                  <a:lnTo>
                    <a:pt x="48" y="999"/>
                  </a:lnTo>
                  <a:lnTo>
                    <a:pt x="107" y="712"/>
                  </a:lnTo>
                  <a:lnTo>
                    <a:pt x="190" y="469"/>
                  </a:lnTo>
                  <a:lnTo>
                    <a:pt x="291" y="257"/>
                  </a:lnTo>
                  <a:lnTo>
                    <a:pt x="403" y="106"/>
                  </a:lnTo>
                  <a:lnTo>
                    <a:pt x="534" y="15"/>
                  </a:lnTo>
                  <a:lnTo>
                    <a:pt x="677" y="0"/>
                  </a:lnTo>
                  <a:lnTo>
                    <a:pt x="742" y="0"/>
                  </a:lnTo>
                  <a:lnTo>
                    <a:pt x="819" y="30"/>
                  </a:lnTo>
                  <a:lnTo>
                    <a:pt x="902" y="76"/>
                  </a:lnTo>
                  <a:lnTo>
                    <a:pt x="997" y="151"/>
                  </a:lnTo>
                  <a:lnTo>
                    <a:pt x="1051" y="182"/>
                  </a:lnTo>
                  <a:lnTo>
                    <a:pt x="1098" y="212"/>
                  </a:lnTo>
                  <a:lnTo>
                    <a:pt x="1134" y="227"/>
                  </a:lnTo>
                  <a:lnTo>
                    <a:pt x="1163" y="242"/>
                  </a:lnTo>
                  <a:lnTo>
                    <a:pt x="1181" y="227"/>
                  </a:lnTo>
                  <a:lnTo>
                    <a:pt x="1199" y="227"/>
                  </a:lnTo>
                  <a:lnTo>
                    <a:pt x="1211" y="212"/>
                  </a:lnTo>
                  <a:lnTo>
                    <a:pt x="1228" y="197"/>
                  </a:lnTo>
                  <a:lnTo>
                    <a:pt x="1235" y="166"/>
                  </a:lnTo>
                  <a:lnTo>
                    <a:pt x="1247" y="121"/>
                  </a:lnTo>
                  <a:lnTo>
                    <a:pt x="1258" y="60"/>
                  </a:lnTo>
                  <a:lnTo>
                    <a:pt x="1276" y="0"/>
                  </a:lnTo>
                  <a:lnTo>
                    <a:pt x="1365" y="0"/>
                  </a:lnTo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22640" y="1763640"/>
              <a:ext cx="488880" cy="2781360"/>
            </a:xfrm>
            <a:custGeom>
              <a:avLst/>
              <a:gdLst/>
              <a:ahLst/>
              <a:rect l="l" t="t" r="r" b="b"/>
              <a:pathLst>
                <a:path w="1359" h="7725">
                  <a:moveTo>
                    <a:pt x="765" y="0"/>
                  </a:moveTo>
                  <a:lnTo>
                    <a:pt x="765" y="1878"/>
                  </a:lnTo>
                  <a:lnTo>
                    <a:pt x="1293" y="1878"/>
                  </a:lnTo>
                  <a:lnTo>
                    <a:pt x="1293" y="2302"/>
                  </a:lnTo>
                  <a:lnTo>
                    <a:pt x="765" y="2318"/>
                  </a:lnTo>
                  <a:lnTo>
                    <a:pt x="765" y="6043"/>
                  </a:lnTo>
                  <a:lnTo>
                    <a:pt x="765" y="6286"/>
                  </a:lnTo>
                  <a:lnTo>
                    <a:pt x="777" y="6498"/>
                  </a:lnTo>
                  <a:lnTo>
                    <a:pt x="801" y="6649"/>
                  </a:lnTo>
                  <a:lnTo>
                    <a:pt x="830" y="6785"/>
                  </a:lnTo>
                  <a:lnTo>
                    <a:pt x="860" y="6861"/>
                  </a:lnTo>
                  <a:lnTo>
                    <a:pt x="902" y="6937"/>
                  </a:lnTo>
                  <a:lnTo>
                    <a:pt x="943" y="6982"/>
                  </a:lnTo>
                  <a:lnTo>
                    <a:pt x="991" y="6997"/>
                  </a:lnTo>
                  <a:lnTo>
                    <a:pt x="1027" y="6982"/>
                  </a:lnTo>
                  <a:lnTo>
                    <a:pt x="1068" y="6952"/>
                  </a:lnTo>
                  <a:lnTo>
                    <a:pt x="1104" y="6906"/>
                  </a:lnTo>
                  <a:lnTo>
                    <a:pt x="1145" y="6846"/>
                  </a:lnTo>
                  <a:lnTo>
                    <a:pt x="1181" y="6770"/>
                  </a:lnTo>
                  <a:lnTo>
                    <a:pt x="1210" y="6679"/>
                  </a:lnTo>
                  <a:lnTo>
                    <a:pt x="1240" y="6573"/>
                  </a:lnTo>
                  <a:lnTo>
                    <a:pt x="1263" y="6467"/>
                  </a:lnTo>
                  <a:lnTo>
                    <a:pt x="1358" y="6467"/>
                  </a:lnTo>
                  <a:lnTo>
                    <a:pt x="1305" y="6755"/>
                  </a:lnTo>
                  <a:lnTo>
                    <a:pt x="1252" y="7012"/>
                  </a:lnTo>
                  <a:lnTo>
                    <a:pt x="1186" y="7224"/>
                  </a:lnTo>
                  <a:lnTo>
                    <a:pt x="1115" y="7406"/>
                  </a:lnTo>
                  <a:lnTo>
                    <a:pt x="1032" y="7543"/>
                  </a:lnTo>
                  <a:lnTo>
                    <a:pt x="949" y="7633"/>
                  </a:lnTo>
                  <a:lnTo>
                    <a:pt x="872" y="7694"/>
                  </a:lnTo>
                  <a:lnTo>
                    <a:pt x="789" y="7724"/>
                  </a:lnTo>
                  <a:lnTo>
                    <a:pt x="729" y="7694"/>
                  </a:lnTo>
                  <a:lnTo>
                    <a:pt x="676" y="7664"/>
                  </a:lnTo>
                  <a:lnTo>
                    <a:pt x="622" y="7618"/>
                  </a:lnTo>
                  <a:lnTo>
                    <a:pt x="569" y="7558"/>
                  </a:lnTo>
                  <a:lnTo>
                    <a:pt x="516" y="7467"/>
                  </a:lnTo>
                  <a:lnTo>
                    <a:pt x="468" y="7361"/>
                  </a:lnTo>
                  <a:lnTo>
                    <a:pt x="432" y="7240"/>
                  </a:lnTo>
                  <a:lnTo>
                    <a:pt x="409" y="7103"/>
                  </a:lnTo>
                  <a:lnTo>
                    <a:pt x="385" y="6922"/>
                  </a:lnTo>
                  <a:lnTo>
                    <a:pt x="367" y="6694"/>
                  </a:lnTo>
                  <a:lnTo>
                    <a:pt x="355" y="6452"/>
                  </a:lnTo>
                  <a:lnTo>
                    <a:pt x="355" y="6164"/>
                  </a:lnTo>
                  <a:lnTo>
                    <a:pt x="355" y="2302"/>
                  </a:lnTo>
                  <a:lnTo>
                    <a:pt x="0" y="2302"/>
                  </a:lnTo>
                  <a:lnTo>
                    <a:pt x="0" y="2106"/>
                  </a:lnTo>
                  <a:lnTo>
                    <a:pt x="65" y="2015"/>
                  </a:lnTo>
                  <a:lnTo>
                    <a:pt x="136" y="1909"/>
                  </a:lnTo>
                  <a:lnTo>
                    <a:pt x="207" y="1788"/>
                  </a:lnTo>
                  <a:lnTo>
                    <a:pt x="278" y="1636"/>
                  </a:lnTo>
                  <a:lnTo>
                    <a:pt x="344" y="1454"/>
                  </a:lnTo>
                  <a:lnTo>
                    <a:pt x="403" y="1273"/>
                  </a:lnTo>
                  <a:lnTo>
                    <a:pt x="468" y="1076"/>
                  </a:lnTo>
                  <a:lnTo>
                    <a:pt x="528" y="864"/>
                  </a:lnTo>
                  <a:lnTo>
                    <a:pt x="557" y="712"/>
                  </a:lnTo>
                  <a:lnTo>
                    <a:pt x="598" y="531"/>
                  </a:lnTo>
                  <a:lnTo>
                    <a:pt x="641" y="288"/>
                  </a:lnTo>
                  <a:lnTo>
                    <a:pt x="688" y="0"/>
                  </a:lnTo>
                  <a:lnTo>
                    <a:pt x="765" y="0"/>
                  </a:lnTo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0560" y="1366920"/>
              <a:ext cx="782640" cy="3206520"/>
            </a:xfrm>
            <a:custGeom>
              <a:avLst/>
              <a:gdLst/>
              <a:ahLst/>
              <a:rect l="l" t="t" r="r" b="b"/>
              <a:pathLst>
                <a:path w="2172" h="8906">
                  <a:moveTo>
                    <a:pt x="1015" y="3226"/>
                  </a:moveTo>
                  <a:lnTo>
                    <a:pt x="943" y="3226"/>
                  </a:lnTo>
                  <a:lnTo>
                    <a:pt x="883" y="3271"/>
                  </a:lnTo>
                  <a:lnTo>
                    <a:pt x="818" y="3332"/>
                  </a:lnTo>
                  <a:lnTo>
                    <a:pt x="753" y="3423"/>
                  </a:lnTo>
                  <a:lnTo>
                    <a:pt x="688" y="3529"/>
                  </a:lnTo>
                  <a:lnTo>
                    <a:pt x="629" y="3695"/>
                  </a:lnTo>
                  <a:lnTo>
                    <a:pt x="581" y="3877"/>
                  </a:lnTo>
                  <a:lnTo>
                    <a:pt x="540" y="4104"/>
                  </a:lnTo>
                  <a:lnTo>
                    <a:pt x="504" y="4362"/>
                  </a:lnTo>
                  <a:lnTo>
                    <a:pt x="475" y="4664"/>
                  </a:lnTo>
                  <a:lnTo>
                    <a:pt x="456" y="5013"/>
                  </a:lnTo>
                  <a:lnTo>
                    <a:pt x="456" y="5391"/>
                  </a:lnTo>
                  <a:lnTo>
                    <a:pt x="468" y="5982"/>
                  </a:lnTo>
                  <a:lnTo>
                    <a:pt x="504" y="6542"/>
                  </a:lnTo>
                  <a:lnTo>
                    <a:pt x="564" y="7057"/>
                  </a:lnTo>
                  <a:lnTo>
                    <a:pt x="652" y="7542"/>
                  </a:lnTo>
                  <a:lnTo>
                    <a:pt x="753" y="7936"/>
                  </a:lnTo>
                  <a:lnTo>
                    <a:pt x="878" y="8239"/>
                  </a:lnTo>
                  <a:lnTo>
                    <a:pt x="1015" y="8405"/>
                  </a:lnTo>
                  <a:lnTo>
                    <a:pt x="1169" y="8466"/>
                  </a:lnTo>
                  <a:lnTo>
                    <a:pt x="1281" y="8420"/>
                  </a:lnTo>
                  <a:lnTo>
                    <a:pt x="1382" y="8329"/>
                  </a:lnTo>
                  <a:lnTo>
                    <a:pt x="1477" y="8178"/>
                  </a:lnTo>
                  <a:lnTo>
                    <a:pt x="1560" y="7951"/>
                  </a:lnTo>
                  <a:lnTo>
                    <a:pt x="1626" y="7648"/>
                  </a:lnTo>
                  <a:lnTo>
                    <a:pt x="1673" y="7269"/>
                  </a:lnTo>
                  <a:lnTo>
                    <a:pt x="1703" y="6785"/>
                  </a:lnTo>
                  <a:lnTo>
                    <a:pt x="1715" y="6224"/>
                  </a:lnTo>
                  <a:lnTo>
                    <a:pt x="1696" y="5497"/>
                  </a:lnTo>
                  <a:lnTo>
                    <a:pt x="1649" y="4861"/>
                  </a:lnTo>
                  <a:lnTo>
                    <a:pt x="1566" y="4301"/>
                  </a:lnTo>
                  <a:lnTo>
                    <a:pt x="1459" y="3832"/>
                  </a:lnTo>
                  <a:lnTo>
                    <a:pt x="1365" y="3559"/>
                  </a:lnTo>
                  <a:lnTo>
                    <a:pt x="1257" y="3362"/>
                  </a:lnTo>
                  <a:lnTo>
                    <a:pt x="1139" y="3256"/>
                  </a:lnTo>
                  <a:lnTo>
                    <a:pt x="1015" y="3226"/>
                  </a:lnTo>
                  <a:close/>
                  <a:moveTo>
                    <a:pt x="1679" y="0"/>
                  </a:moveTo>
                  <a:lnTo>
                    <a:pt x="943" y="2181"/>
                  </a:lnTo>
                  <a:lnTo>
                    <a:pt x="861" y="2181"/>
                  </a:lnTo>
                  <a:lnTo>
                    <a:pt x="1127" y="0"/>
                  </a:lnTo>
                  <a:lnTo>
                    <a:pt x="1679" y="0"/>
                  </a:lnTo>
                  <a:close/>
                  <a:moveTo>
                    <a:pt x="1085" y="2817"/>
                  </a:moveTo>
                  <a:lnTo>
                    <a:pt x="1329" y="2877"/>
                  </a:lnTo>
                  <a:lnTo>
                    <a:pt x="1548" y="3059"/>
                  </a:lnTo>
                  <a:lnTo>
                    <a:pt x="1739" y="3362"/>
                  </a:lnTo>
                  <a:lnTo>
                    <a:pt x="1910" y="3801"/>
                  </a:lnTo>
                  <a:lnTo>
                    <a:pt x="2023" y="4225"/>
                  </a:lnTo>
                  <a:lnTo>
                    <a:pt x="2100" y="4695"/>
                  </a:lnTo>
                  <a:lnTo>
                    <a:pt x="2154" y="5195"/>
                  </a:lnTo>
                  <a:lnTo>
                    <a:pt x="2171" y="5740"/>
                  </a:lnTo>
                  <a:lnTo>
                    <a:pt x="2159" y="6118"/>
                  </a:lnTo>
                  <a:lnTo>
                    <a:pt x="2136" y="6512"/>
                  </a:lnTo>
                  <a:lnTo>
                    <a:pt x="2088" y="6891"/>
                  </a:lnTo>
                  <a:lnTo>
                    <a:pt x="2029" y="7300"/>
                  </a:lnTo>
                  <a:lnTo>
                    <a:pt x="1946" y="7663"/>
                  </a:lnTo>
                  <a:lnTo>
                    <a:pt x="1850" y="7981"/>
                  </a:lnTo>
                  <a:lnTo>
                    <a:pt x="1744" y="8269"/>
                  </a:lnTo>
                  <a:lnTo>
                    <a:pt x="1626" y="8496"/>
                  </a:lnTo>
                  <a:lnTo>
                    <a:pt x="1489" y="8663"/>
                  </a:lnTo>
                  <a:lnTo>
                    <a:pt x="1353" y="8784"/>
                  </a:lnTo>
                  <a:lnTo>
                    <a:pt x="1210" y="8860"/>
                  </a:lnTo>
                  <a:lnTo>
                    <a:pt x="1062" y="8905"/>
                  </a:lnTo>
                  <a:lnTo>
                    <a:pt x="818" y="8829"/>
                  </a:lnTo>
                  <a:lnTo>
                    <a:pt x="605" y="8632"/>
                  </a:lnTo>
                  <a:lnTo>
                    <a:pt x="415" y="8314"/>
                  </a:lnTo>
                  <a:lnTo>
                    <a:pt x="255" y="7860"/>
                  </a:lnTo>
                  <a:lnTo>
                    <a:pt x="142" y="7406"/>
                  </a:lnTo>
                  <a:lnTo>
                    <a:pt x="59" y="6921"/>
                  </a:lnTo>
                  <a:lnTo>
                    <a:pt x="12" y="6421"/>
                  </a:lnTo>
                  <a:lnTo>
                    <a:pt x="0" y="5906"/>
                  </a:lnTo>
                  <a:lnTo>
                    <a:pt x="5" y="5497"/>
                  </a:lnTo>
                  <a:lnTo>
                    <a:pt x="36" y="5119"/>
                  </a:lnTo>
                  <a:lnTo>
                    <a:pt x="82" y="4725"/>
                  </a:lnTo>
                  <a:lnTo>
                    <a:pt x="154" y="4331"/>
                  </a:lnTo>
                  <a:lnTo>
                    <a:pt x="231" y="3968"/>
                  </a:lnTo>
                  <a:lnTo>
                    <a:pt x="326" y="3650"/>
                  </a:lnTo>
                  <a:lnTo>
                    <a:pt x="432" y="3392"/>
                  </a:lnTo>
                  <a:lnTo>
                    <a:pt x="557" y="3180"/>
                  </a:lnTo>
                  <a:lnTo>
                    <a:pt x="682" y="3014"/>
                  </a:lnTo>
                  <a:lnTo>
                    <a:pt x="813" y="2908"/>
                  </a:lnTo>
                  <a:lnTo>
                    <a:pt x="943" y="2832"/>
                  </a:lnTo>
                  <a:lnTo>
                    <a:pt x="1085" y="2817"/>
                  </a:lnTo>
                  <a:close/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4480" y="2379600"/>
              <a:ext cx="603360" cy="2131920"/>
            </a:xfrm>
            <a:custGeom>
              <a:avLst/>
              <a:gdLst/>
              <a:ahLst/>
              <a:rect l="l" t="t" r="r" b="b"/>
              <a:pathLst>
                <a:path w="1675" h="5922">
                  <a:moveTo>
                    <a:pt x="789" y="0"/>
                  </a:moveTo>
                  <a:lnTo>
                    <a:pt x="789" y="1287"/>
                  </a:lnTo>
                  <a:lnTo>
                    <a:pt x="926" y="712"/>
                  </a:lnTo>
                  <a:lnTo>
                    <a:pt x="1068" y="318"/>
                  </a:lnTo>
                  <a:lnTo>
                    <a:pt x="1216" y="76"/>
                  </a:lnTo>
                  <a:lnTo>
                    <a:pt x="1365" y="0"/>
                  </a:lnTo>
                  <a:lnTo>
                    <a:pt x="1425" y="0"/>
                  </a:lnTo>
                  <a:lnTo>
                    <a:pt x="1483" y="45"/>
                  </a:lnTo>
                  <a:lnTo>
                    <a:pt x="1537" y="121"/>
                  </a:lnTo>
                  <a:lnTo>
                    <a:pt x="1585" y="212"/>
                  </a:lnTo>
                  <a:lnTo>
                    <a:pt x="1620" y="318"/>
                  </a:lnTo>
                  <a:lnTo>
                    <a:pt x="1650" y="424"/>
                  </a:lnTo>
                  <a:lnTo>
                    <a:pt x="1667" y="560"/>
                  </a:lnTo>
                  <a:lnTo>
                    <a:pt x="1674" y="696"/>
                  </a:lnTo>
                  <a:lnTo>
                    <a:pt x="1667" y="802"/>
                  </a:lnTo>
                  <a:lnTo>
                    <a:pt x="1656" y="924"/>
                  </a:lnTo>
                  <a:lnTo>
                    <a:pt x="1638" y="1015"/>
                  </a:lnTo>
                  <a:lnTo>
                    <a:pt x="1614" y="1105"/>
                  </a:lnTo>
                  <a:lnTo>
                    <a:pt x="1579" y="1166"/>
                  </a:lnTo>
                  <a:lnTo>
                    <a:pt x="1543" y="1227"/>
                  </a:lnTo>
                  <a:lnTo>
                    <a:pt x="1502" y="1257"/>
                  </a:lnTo>
                  <a:lnTo>
                    <a:pt x="1460" y="1272"/>
                  </a:lnTo>
                  <a:lnTo>
                    <a:pt x="1413" y="1257"/>
                  </a:lnTo>
                  <a:lnTo>
                    <a:pt x="1370" y="1211"/>
                  </a:lnTo>
                  <a:lnTo>
                    <a:pt x="1317" y="1136"/>
                  </a:lnTo>
                  <a:lnTo>
                    <a:pt x="1270" y="1060"/>
                  </a:lnTo>
                  <a:lnTo>
                    <a:pt x="1216" y="969"/>
                  </a:lnTo>
                  <a:lnTo>
                    <a:pt x="1175" y="893"/>
                  </a:lnTo>
                  <a:lnTo>
                    <a:pt x="1139" y="848"/>
                  </a:lnTo>
                  <a:lnTo>
                    <a:pt x="1110" y="848"/>
                  </a:lnTo>
                  <a:lnTo>
                    <a:pt x="1086" y="848"/>
                  </a:lnTo>
                  <a:lnTo>
                    <a:pt x="1062" y="878"/>
                  </a:lnTo>
                  <a:lnTo>
                    <a:pt x="1039" y="908"/>
                  </a:lnTo>
                  <a:lnTo>
                    <a:pt x="1015" y="969"/>
                  </a:lnTo>
                  <a:lnTo>
                    <a:pt x="955" y="1105"/>
                  </a:lnTo>
                  <a:lnTo>
                    <a:pt x="902" y="1302"/>
                  </a:lnTo>
                  <a:lnTo>
                    <a:pt x="842" y="1529"/>
                  </a:lnTo>
                  <a:lnTo>
                    <a:pt x="789" y="1817"/>
                  </a:lnTo>
                  <a:lnTo>
                    <a:pt x="789" y="4558"/>
                  </a:lnTo>
                  <a:lnTo>
                    <a:pt x="789" y="4770"/>
                  </a:lnTo>
                  <a:lnTo>
                    <a:pt x="801" y="4967"/>
                  </a:lnTo>
                  <a:lnTo>
                    <a:pt x="813" y="5134"/>
                  </a:lnTo>
                  <a:lnTo>
                    <a:pt x="837" y="5300"/>
                  </a:lnTo>
                  <a:lnTo>
                    <a:pt x="849" y="5376"/>
                  </a:lnTo>
                  <a:lnTo>
                    <a:pt x="878" y="5437"/>
                  </a:lnTo>
                  <a:lnTo>
                    <a:pt x="908" y="5512"/>
                  </a:lnTo>
                  <a:lnTo>
                    <a:pt x="950" y="5573"/>
                  </a:lnTo>
                  <a:lnTo>
                    <a:pt x="991" y="5619"/>
                  </a:lnTo>
                  <a:lnTo>
                    <a:pt x="1051" y="5649"/>
                  </a:lnTo>
                  <a:lnTo>
                    <a:pt x="1110" y="5679"/>
                  </a:lnTo>
                  <a:lnTo>
                    <a:pt x="1187" y="5694"/>
                  </a:lnTo>
                  <a:lnTo>
                    <a:pt x="1187" y="5921"/>
                  </a:lnTo>
                  <a:lnTo>
                    <a:pt x="24" y="5921"/>
                  </a:lnTo>
                  <a:lnTo>
                    <a:pt x="24" y="5694"/>
                  </a:lnTo>
                  <a:lnTo>
                    <a:pt x="101" y="5679"/>
                  </a:lnTo>
                  <a:lnTo>
                    <a:pt x="172" y="5649"/>
                  </a:lnTo>
                  <a:lnTo>
                    <a:pt x="232" y="5603"/>
                  </a:lnTo>
                  <a:lnTo>
                    <a:pt x="279" y="5558"/>
                  </a:lnTo>
                  <a:lnTo>
                    <a:pt x="303" y="5482"/>
                  </a:lnTo>
                  <a:lnTo>
                    <a:pt x="333" y="5422"/>
                  </a:lnTo>
                  <a:lnTo>
                    <a:pt x="350" y="5331"/>
                  </a:lnTo>
                  <a:lnTo>
                    <a:pt x="369" y="5240"/>
                  </a:lnTo>
                  <a:lnTo>
                    <a:pt x="369" y="5134"/>
                  </a:lnTo>
                  <a:lnTo>
                    <a:pt x="374" y="4998"/>
                  </a:lnTo>
                  <a:lnTo>
                    <a:pt x="374" y="4816"/>
                  </a:lnTo>
                  <a:lnTo>
                    <a:pt x="379" y="4604"/>
                  </a:lnTo>
                  <a:lnTo>
                    <a:pt x="379" y="2393"/>
                  </a:lnTo>
                  <a:lnTo>
                    <a:pt x="374" y="1938"/>
                  </a:lnTo>
                  <a:lnTo>
                    <a:pt x="374" y="1590"/>
                  </a:lnTo>
                  <a:lnTo>
                    <a:pt x="369" y="1333"/>
                  </a:lnTo>
                  <a:lnTo>
                    <a:pt x="369" y="1196"/>
                  </a:lnTo>
                  <a:lnTo>
                    <a:pt x="357" y="1090"/>
                  </a:lnTo>
                  <a:lnTo>
                    <a:pt x="345" y="1015"/>
                  </a:lnTo>
                  <a:lnTo>
                    <a:pt x="326" y="954"/>
                  </a:lnTo>
                  <a:lnTo>
                    <a:pt x="309" y="908"/>
                  </a:lnTo>
                  <a:lnTo>
                    <a:pt x="279" y="863"/>
                  </a:lnTo>
                  <a:lnTo>
                    <a:pt x="256" y="848"/>
                  </a:lnTo>
                  <a:lnTo>
                    <a:pt x="226" y="833"/>
                  </a:lnTo>
                  <a:lnTo>
                    <a:pt x="196" y="833"/>
                  </a:lnTo>
                  <a:lnTo>
                    <a:pt x="154" y="833"/>
                  </a:lnTo>
                  <a:lnTo>
                    <a:pt x="113" y="848"/>
                  </a:lnTo>
                  <a:lnTo>
                    <a:pt x="65" y="878"/>
                  </a:lnTo>
                  <a:lnTo>
                    <a:pt x="24" y="924"/>
                  </a:lnTo>
                  <a:lnTo>
                    <a:pt x="0" y="696"/>
                  </a:lnTo>
                  <a:lnTo>
                    <a:pt x="683" y="0"/>
                  </a:lnTo>
                  <a:lnTo>
                    <a:pt x="789" y="0"/>
                  </a:lnTo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68880" y="1295280"/>
              <a:ext cx="403200" cy="3216240"/>
            </a:xfrm>
            <a:custGeom>
              <a:avLst/>
              <a:gdLst/>
              <a:ahLst/>
              <a:rect l="l" t="t" r="r" b="b"/>
              <a:pathLst>
                <a:path w="1122" h="8936">
                  <a:moveTo>
                    <a:pt x="789" y="3014"/>
                  </a:moveTo>
                  <a:lnTo>
                    <a:pt x="789" y="7618"/>
                  </a:lnTo>
                  <a:lnTo>
                    <a:pt x="789" y="7860"/>
                  </a:lnTo>
                  <a:lnTo>
                    <a:pt x="795" y="8057"/>
                  </a:lnTo>
                  <a:lnTo>
                    <a:pt x="801" y="8239"/>
                  </a:lnTo>
                  <a:lnTo>
                    <a:pt x="819" y="8345"/>
                  </a:lnTo>
                  <a:lnTo>
                    <a:pt x="831" y="8420"/>
                  </a:lnTo>
                  <a:lnTo>
                    <a:pt x="854" y="8496"/>
                  </a:lnTo>
                  <a:lnTo>
                    <a:pt x="878" y="8557"/>
                  </a:lnTo>
                  <a:lnTo>
                    <a:pt x="909" y="8617"/>
                  </a:lnTo>
                  <a:lnTo>
                    <a:pt x="943" y="8648"/>
                  </a:lnTo>
                  <a:lnTo>
                    <a:pt x="991" y="8678"/>
                  </a:lnTo>
                  <a:lnTo>
                    <a:pt x="1051" y="8693"/>
                  </a:lnTo>
                  <a:lnTo>
                    <a:pt x="1121" y="8708"/>
                  </a:lnTo>
                  <a:lnTo>
                    <a:pt x="1121" y="8935"/>
                  </a:lnTo>
                  <a:lnTo>
                    <a:pt x="36" y="8935"/>
                  </a:lnTo>
                  <a:lnTo>
                    <a:pt x="36" y="8708"/>
                  </a:lnTo>
                  <a:lnTo>
                    <a:pt x="107" y="8693"/>
                  </a:lnTo>
                  <a:lnTo>
                    <a:pt x="172" y="8678"/>
                  </a:lnTo>
                  <a:lnTo>
                    <a:pt x="220" y="8648"/>
                  </a:lnTo>
                  <a:lnTo>
                    <a:pt x="261" y="8617"/>
                  </a:lnTo>
                  <a:lnTo>
                    <a:pt x="285" y="8572"/>
                  </a:lnTo>
                  <a:lnTo>
                    <a:pt x="309" y="8511"/>
                  </a:lnTo>
                  <a:lnTo>
                    <a:pt x="326" y="8436"/>
                  </a:lnTo>
                  <a:lnTo>
                    <a:pt x="350" y="8345"/>
                  </a:lnTo>
                  <a:lnTo>
                    <a:pt x="362" y="8224"/>
                  </a:lnTo>
                  <a:lnTo>
                    <a:pt x="368" y="8057"/>
                  </a:lnTo>
                  <a:lnTo>
                    <a:pt x="374" y="7845"/>
                  </a:lnTo>
                  <a:lnTo>
                    <a:pt x="380" y="7618"/>
                  </a:lnTo>
                  <a:lnTo>
                    <a:pt x="380" y="5422"/>
                  </a:lnTo>
                  <a:lnTo>
                    <a:pt x="374" y="4983"/>
                  </a:lnTo>
                  <a:lnTo>
                    <a:pt x="374" y="4649"/>
                  </a:lnTo>
                  <a:lnTo>
                    <a:pt x="362" y="4377"/>
                  </a:lnTo>
                  <a:lnTo>
                    <a:pt x="356" y="4210"/>
                  </a:lnTo>
                  <a:lnTo>
                    <a:pt x="345" y="4104"/>
                  </a:lnTo>
                  <a:lnTo>
                    <a:pt x="333" y="4029"/>
                  </a:lnTo>
                  <a:lnTo>
                    <a:pt x="315" y="3953"/>
                  </a:lnTo>
                  <a:lnTo>
                    <a:pt x="303" y="3922"/>
                  </a:lnTo>
                  <a:lnTo>
                    <a:pt x="279" y="3877"/>
                  </a:lnTo>
                  <a:lnTo>
                    <a:pt x="255" y="3862"/>
                  </a:lnTo>
                  <a:lnTo>
                    <a:pt x="232" y="3847"/>
                  </a:lnTo>
                  <a:lnTo>
                    <a:pt x="202" y="3847"/>
                  </a:lnTo>
                  <a:lnTo>
                    <a:pt x="161" y="3847"/>
                  </a:lnTo>
                  <a:lnTo>
                    <a:pt x="125" y="3862"/>
                  </a:lnTo>
                  <a:lnTo>
                    <a:pt x="77" y="3892"/>
                  </a:lnTo>
                  <a:lnTo>
                    <a:pt x="36" y="3938"/>
                  </a:lnTo>
                  <a:lnTo>
                    <a:pt x="0" y="3710"/>
                  </a:lnTo>
                  <a:lnTo>
                    <a:pt x="682" y="3014"/>
                  </a:lnTo>
                  <a:lnTo>
                    <a:pt x="789" y="3014"/>
                  </a:lnTo>
                  <a:close/>
                  <a:moveTo>
                    <a:pt x="581" y="0"/>
                  </a:moveTo>
                  <a:lnTo>
                    <a:pt x="629" y="0"/>
                  </a:lnTo>
                  <a:lnTo>
                    <a:pt x="677" y="45"/>
                  </a:lnTo>
                  <a:lnTo>
                    <a:pt x="718" y="91"/>
                  </a:lnTo>
                  <a:lnTo>
                    <a:pt x="760" y="182"/>
                  </a:lnTo>
                  <a:lnTo>
                    <a:pt x="789" y="273"/>
                  </a:lnTo>
                  <a:lnTo>
                    <a:pt x="813" y="379"/>
                  </a:lnTo>
                  <a:lnTo>
                    <a:pt x="825" y="500"/>
                  </a:lnTo>
                  <a:lnTo>
                    <a:pt x="831" y="636"/>
                  </a:lnTo>
                  <a:lnTo>
                    <a:pt x="825" y="757"/>
                  </a:lnTo>
                  <a:lnTo>
                    <a:pt x="813" y="863"/>
                  </a:lnTo>
                  <a:lnTo>
                    <a:pt x="789" y="984"/>
                  </a:lnTo>
                  <a:lnTo>
                    <a:pt x="760" y="1090"/>
                  </a:lnTo>
                  <a:lnTo>
                    <a:pt x="718" y="1166"/>
                  </a:lnTo>
                  <a:lnTo>
                    <a:pt x="677" y="1227"/>
                  </a:lnTo>
                  <a:lnTo>
                    <a:pt x="629" y="1272"/>
                  </a:lnTo>
                  <a:lnTo>
                    <a:pt x="581" y="1287"/>
                  </a:lnTo>
                  <a:lnTo>
                    <a:pt x="528" y="1272"/>
                  </a:lnTo>
                  <a:lnTo>
                    <a:pt x="487" y="1227"/>
                  </a:lnTo>
                  <a:lnTo>
                    <a:pt x="446" y="1166"/>
                  </a:lnTo>
                  <a:lnTo>
                    <a:pt x="410" y="1090"/>
                  </a:lnTo>
                  <a:lnTo>
                    <a:pt x="374" y="984"/>
                  </a:lnTo>
                  <a:lnTo>
                    <a:pt x="350" y="863"/>
                  </a:lnTo>
                  <a:lnTo>
                    <a:pt x="333" y="757"/>
                  </a:lnTo>
                  <a:lnTo>
                    <a:pt x="333" y="636"/>
                  </a:lnTo>
                  <a:lnTo>
                    <a:pt x="333" y="500"/>
                  </a:lnTo>
                  <a:lnTo>
                    <a:pt x="350" y="379"/>
                  </a:lnTo>
                  <a:lnTo>
                    <a:pt x="368" y="273"/>
                  </a:lnTo>
                  <a:lnTo>
                    <a:pt x="403" y="182"/>
                  </a:lnTo>
                  <a:lnTo>
                    <a:pt x="439" y="91"/>
                  </a:lnTo>
                  <a:lnTo>
                    <a:pt x="480" y="45"/>
                  </a:lnTo>
                  <a:lnTo>
                    <a:pt x="528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80080" y="2379600"/>
              <a:ext cx="735120" cy="2176560"/>
            </a:xfrm>
            <a:custGeom>
              <a:avLst/>
              <a:gdLst/>
              <a:ahLst/>
              <a:rect l="l" t="t" r="r" b="b"/>
              <a:pathLst>
                <a:path w="2043" h="6044">
                  <a:moveTo>
                    <a:pt x="1252" y="4680"/>
                  </a:moveTo>
                  <a:lnTo>
                    <a:pt x="1252" y="2484"/>
                  </a:lnTo>
                  <a:lnTo>
                    <a:pt x="1080" y="2650"/>
                  </a:lnTo>
                  <a:lnTo>
                    <a:pt x="943" y="2802"/>
                  </a:lnTo>
                  <a:lnTo>
                    <a:pt x="837" y="2908"/>
                  </a:lnTo>
                  <a:lnTo>
                    <a:pt x="772" y="3014"/>
                  </a:lnTo>
                  <a:lnTo>
                    <a:pt x="677" y="3150"/>
                  </a:lnTo>
                  <a:lnTo>
                    <a:pt x="600" y="3286"/>
                  </a:lnTo>
                  <a:lnTo>
                    <a:pt x="540" y="3438"/>
                  </a:lnTo>
                  <a:lnTo>
                    <a:pt x="492" y="3589"/>
                  </a:lnTo>
                  <a:lnTo>
                    <a:pt x="458" y="3741"/>
                  </a:lnTo>
                  <a:lnTo>
                    <a:pt x="427" y="3892"/>
                  </a:lnTo>
                  <a:lnTo>
                    <a:pt x="410" y="4074"/>
                  </a:lnTo>
                  <a:lnTo>
                    <a:pt x="410" y="4255"/>
                  </a:lnTo>
                  <a:lnTo>
                    <a:pt x="415" y="4468"/>
                  </a:lnTo>
                  <a:lnTo>
                    <a:pt x="434" y="4664"/>
                  </a:lnTo>
                  <a:lnTo>
                    <a:pt x="470" y="4831"/>
                  </a:lnTo>
                  <a:lnTo>
                    <a:pt x="516" y="4998"/>
                  </a:lnTo>
                  <a:lnTo>
                    <a:pt x="570" y="5119"/>
                  </a:lnTo>
                  <a:lnTo>
                    <a:pt x="629" y="5225"/>
                  </a:lnTo>
                  <a:lnTo>
                    <a:pt x="689" y="5285"/>
                  </a:lnTo>
                  <a:lnTo>
                    <a:pt x="760" y="5316"/>
                  </a:lnTo>
                  <a:lnTo>
                    <a:pt x="861" y="5270"/>
                  </a:lnTo>
                  <a:lnTo>
                    <a:pt x="974" y="5134"/>
                  </a:lnTo>
                  <a:lnTo>
                    <a:pt x="1104" y="4937"/>
                  </a:lnTo>
                  <a:lnTo>
                    <a:pt x="1252" y="4680"/>
                  </a:lnTo>
                  <a:close/>
                  <a:moveTo>
                    <a:pt x="1252" y="5073"/>
                  </a:moveTo>
                  <a:lnTo>
                    <a:pt x="1092" y="5391"/>
                  </a:lnTo>
                  <a:lnTo>
                    <a:pt x="967" y="5634"/>
                  </a:lnTo>
                  <a:lnTo>
                    <a:pt x="878" y="5785"/>
                  </a:lnTo>
                  <a:lnTo>
                    <a:pt x="820" y="5891"/>
                  </a:lnTo>
                  <a:lnTo>
                    <a:pt x="748" y="5937"/>
                  </a:lnTo>
                  <a:lnTo>
                    <a:pt x="677" y="5982"/>
                  </a:lnTo>
                  <a:lnTo>
                    <a:pt x="605" y="6012"/>
                  </a:lnTo>
                  <a:lnTo>
                    <a:pt x="535" y="6043"/>
                  </a:lnTo>
                  <a:lnTo>
                    <a:pt x="422" y="5997"/>
                  </a:lnTo>
                  <a:lnTo>
                    <a:pt x="321" y="5921"/>
                  </a:lnTo>
                  <a:lnTo>
                    <a:pt x="232" y="5800"/>
                  </a:lnTo>
                  <a:lnTo>
                    <a:pt x="154" y="5634"/>
                  </a:lnTo>
                  <a:lnTo>
                    <a:pt x="84" y="5406"/>
                  </a:lnTo>
                  <a:lnTo>
                    <a:pt x="36" y="5134"/>
                  </a:lnTo>
                  <a:lnTo>
                    <a:pt x="7" y="4846"/>
                  </a:lnTo>
                  <a:lnTo>
                    <a:pt x="0" y="4543"/>
                  </a:lnTo>
                  <a:lnTo>
                    <a:pt x="0" y="4331"/>
                  </a:lnTo>
                  <a:lnTo>
                    <a:pt x="19" y="4149"/>
                  </a:lnTo>
                  <a:lnTo>
                    <a:pt x="36" y="3968"/>
                  </a:lnTo>
                  <a:lnTo>
                    <a:pt x="72" y="3816"/>
                  </a:lnTo>
                  <a:lnTo>
                    <a:pt x="125" y="3604"/>
                  </a:lnTo>
                  <a:lnTo>
                    <a:pt x="208" y="3392"/>
                  </a:lnTo>
                  <a:lnTo>
                    <a:pt x="303" y="3195"/>
                  </a:lnTo>
                  <a:lnTo>
                    <a:pt x="422" y="3014"/>
                  </a:lnTo>
                  <a:lnTo>
                    <a:pt x="564" y="2817"/>
                  </a:lnTo>
                  <a:lnTo>
                    <a:pt x="754" y="2605"/>
                  </a:lnTo>
                  <a:lnTo>
                    <a:pt x="979" y="2362"/>
                  </a:lnTo>
                  <a:lnTo>
                    <a:pt x="1252" y="2105"/>
                  </a:lnTo>
                  <a:lnTo>
                    <a:pt x="1252" y="1878"/>
                  </a:lnTo>
                  <a:lnTo>
                    <a:pt x="1240" y="1469"/>
                  </a:lnTo>
                  <a:lnTo>
                    <a:pt x="1223" y="1151"/>
                  </a:lnTo>
                  <a:lnTo>
                    <a:pt x="1187" y="878"/>
                  </a:lnTo>
                  <a:lnTo>
                    <a:pt x="1146" y="696"/>
                  </a:lnTo>
                  <a:lnTo>
                    <a:pt x="1080" y="545"/>
                  </a:lnTo>
                  <a:lnTo>
                    <a:pt x="1010" y="454"/>
                  </a:lnTo>
                  <a:lnTo>
                    <a:pt x="926" y="394"/>
                  </a:lnTo>
                  <a:lnTo>
                    <a:pt x="831" y="378"/>
                  </a:lnTo>
                  <a:lnTo>
                    <a:pt x="754" y="378"/>
                  </a:lnTo>
                  <a:lnTo>
                    <a:pt x="689" y="424"/>
                  </a:lnTo>
                  <a:lnTo>
                    <a:pt x="635" y="500"/>
                  </a:lnTo>
                  <a:lnTo>
                    <a:pt x="588" y="590"/>
                  </a:lnTo>
                  <a:lnTo>
                    <a:pt x="540" y="696"/>
                  </a:lnTo>
                  <a:lnTo>
                    <a:pt x="511" y="802"/>
                  </a:lnTo>
                  <a:lnTo>
                    <a:pt x="492" y="939"/>
                  </a:lnTo>
                  <a:lnTo>
                    <a:pt x="492" y="1075"/>
                  </a:lnTo>
                  <a:lnTo>
                    <a:pt x="499" y="1439"/>
                  </a:lnTo>
                  <a:lnTo>
                    <a:pt x="492" y="1575"/>
                  </a:lnTo>
                  <a:lnTo>
                    <a:pt x="482" y="1681"/>
                  </a:lnTo>
                  <a:lnTo>
                    <a:pt x="463" y="1787"/>
                  </a:lnTo>
                  <a:lnTo>
                    <a:pt x="446" y="1878"/>
                  </a:lnTo>
                  <a:lnTo>
                    <a:pt x="410" y="1938"/>
                  </a:lnTo>
                  <a:lnTo>
                    <a:pt x="374" y="1999"/>
                  </a:lnTo>
                  <a:lnTo>
                    <a:pt x="333" y="2029"/>
                  </a:lnTo>
                  <a:lnTo>
                    <a:pt x="291" y="2044"/>
                  </a:lnTo>
                  <a:lnTo>
                    <a:pt x="244" y="2029"/>
                  </a:lnTo>
                  <a:lnTo>
                    <a:pt x="202" y="1999"/>
                  </a:lnTo>
                  <a:lnTo>
                    <a:pt x="166" y="1938"/>
                  </a:lnTo>
                  <a:lnTo>
                    <a:pt x="143" y="1878"/>
                  </a:lnTo>
                  <a:lnTo>
                    <a:pt x="113" y="1787"/>
                  </a:lnTo>
                  <a:lnTo>
                    <a:pt x="96" y="1681"/>
                  </a:lnTo>
                  <a:lnTo>
                    <a:pt x="84" y="1575"/>
                  </a:lnTo>
                  <a:lnTo>
                    <a:pt x="84" y="1439"/>
                  </a:lnTo>
                  <a:lnTo>
                    <a:pt x="96" y="1166"/>
                  </a:lnTo>
                  <a:lnTo>
                    <a:pt x="137" y="908"/>
                  </a:lnTo>
                  <a:lnTo>
                    <a:pt x="202" y="666"/>
                  </a:lnTo>
                  <a:lnTo>
                    <a:pt x="303" y="439"/>
                  </a:lnTo>
                  <a:lnTo>
                    <a:pt x="415" y="242"/>
                  </a:lnTo>
                  <a:lnTo>
                    <a:pt x="559" y="106"/>
                  </a:lnTo>
                  <a:lnTo>
                    <a:pt x="718" y="15"/>
                  </a:lnTo>
                  <a:lnTo>
                    <a:pt x="909" y="0"/>
                  </a:lnTo>
                  <a:lnTo>
                    <a:pt x="1044" y="15"/>
                  </a:lnTo>
                  <a:lnTo>
                    <a:pt x="1175" y="60"/>
                  </a:lnTo>
                  <a:lnTo>
                    <a:pt x="1294" y="136"/>
                  </a:lnTo>
                  <a:lnTo>
                    <a:pt x="1401" y="257"/>
                  </a:lnTo>
                  <a:lnTo>
                    <a:pt x="1466" y="363"/>
                  </a:lnTo>
                  <a:lnTo>
                    <a:pt x="1526" y="500"/>
                  </a:lnTo>
                  <a:lnTo>
                    <a:pt x="1573" y="666"/>
                  </a:lnTo>
                  <a:lnTo>
                    <a:pt x="1614" y="863"/>
                  </a:lnTo>
                  <a:lnTo>
                    <a:pt x="1632" y="1030"/>
                  </a:lnTo>
                  <a:lnTo>
                    <a:pt x="1644" y="1272"/>
                  </a:lnTo>
                  <a:lnTo>
                    <a:pt x="1650" y="1575"/>
                  </a:lnTo>
                  <a:lnTo>
                    <a:pt x="1656" y="1953"/>
                  </a:lnTo>
                  <a:lnTo>
                    <a:pt x="1656" y="3892"/>
                  </a:lnTo>
                  <a:lnTo>
                    <a:pt x="1656" y="4255"/>
                  </a:lnTo>
                  <a:lnTo>
                    <a:pt x="1656" y="4543"/>
                  </a:lnTo>
                  <a:lnTo>
                    <a:pt x="1662" y="4755"/>
                  </a:lnTo>
                  <a:lnTo>
                    <a:pt x="1668" y="4892"/>
                  </a:lnTo>
                  <a:lnTo>
                    <a:pt x="1674" y="4982"/>
                  </a:lnTo>
                  <a:lnTo>
                    <a:pt x="1680" y="5043"/>
                  </a:lnTo>
                  <a:lnTo>
                    <a:pt x="1691" y="5104"/>
                  </a:lnTo>
                  <a:lnTo>
                    <a:pt x="1709" y="5149"/>
                  </a:lnTo>
                  <a:lnTo>
                    <a:pt x="1721" y="5164"/>
                  </a:lnTo>
                  <a:lnTo>
                    <a:pt x="1739" y="5210"/>
                  </a:lnTo>
                  <a:lnTo>
                    <a:pt x="1757" y="5210"/>
                  </a:lnTo>
                  <a:lnTo>
                    <a:pt x="1775" y="5225"/>
                  </a:lnTo>
                  <a:lnTo>
                    <a:pt x="1792" y="5210"/>
                  </a:lnTo>
                  <a:lnTo>
                    <a:pt x="1811" y="5210"/>
                  </a:lnTo>
                  <a:lnTo>
                    <a:pt x="1822" y="5194"/>
                  </a:lnTo>
                  <a:lnTo>
                    <a:pt x="1840" y="5164"/>
                  </a:lnTo>
                  <a:lnTo>
                    <a:pt x="1869" y="5104"/>
                  </a:lnTo>
                  <a:lnTo>
                    <a:pt x="1912" y="5013"/>
                  </a:lnTo>
                  <a:lnTo>
                    <a:pt x="1970" y="4876"/>
                  </a:lnTo>
                  <a:lnTo>
                    <a:pt x="2042" y="4710"/>
                  </a:lnTo>
                  <a:lnTo>
                    <a:pt x="2042" y="5058"/>
                  </a:lnTo>
                  <a:lnTo>
                    <a:pt x="1905" y="5467"/>
                  </a:lnTo>
                  <a:lnTo>
                    <a:pt x="1768" y="5770"/>
                  </a:lnTo>
                  <a:lnTo>
                    <a:pt x="1644" y="5937"/>
                  </a:lnTo>
                  <a:lnTo>
                    <a:pt x="1519" y="6012"/>
                  </a:lnTo>
                  <a:lnTo>
                    <a:pt x="1461" y="5982"/>
                  </a:lnTo>
                  <a:lnTo>
                    <a:pt x="1406" y="5937"/>
                  </a:lnTo>
                  <a:lnTo>
                    <a:pt x="1360" y="5876"/>
                  </a:lnTo>
                  <a:lnTo>
                    <a:pt x="1324" y="5800"/>
                  </a:lnTo>
                  <a:lnTo>
                    <a:pt x="1288" y="5679"/>
                  </a:lnTo>
                  <a:lnTo>
                    <a:pt x="1270" y="5512"/>
                  </a:lnTo>
                  <a:lnTo>
                    <a:pt x="1252" y="5316"/>
                  </a:lnTo>
                  <a:lnTo>
                    <a:pt x="1252" y="5073"/>
                  </a:lnTo>
                  <a:close/>
                </a:path>
              </a:pathLst>
            </a:custGeom>
            <a:solidFill>
              <a:srgbClr val="336699"/>
            </a:solidFill>
            <a:ln w="28440">
              <a:solidFill>
                <a:srgbClr val="000000"/>
              </a:solidFill>
              <a:round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838080" y="380880"/>
            <a:ext cx="3505320" cy="1371600"/>
            <a:chOff x="838080" y="380880"/>
            <a:chExt cx="3505320" cy="1371600"/>
          </a:xfrm>
        </p:grpSpPr>
        <p:sp>
          <p:nvSpPr>
            <p:cNvPr id="120" name=""/>
            <p:cNvSpPr/>
            <p:nvPr/>
          </p:nvSpPr>
          <p:spPr>
            <a:xfrm>
              <a:off x="838080" y="663480"/>
              <a:ext cx="295560" cy="1071720"/>
            </a:xfrm>
            <a:custGeom>
              <a:avLst/>
              <a:gdLst/>
              <a:ahLst/>
              <a:rect l="l" t="t" r="r" b="b"/>
              <a:pathLst>
                <a:path w="819" h="2975">
                  <a:moveTo>
                    <a:pt x="299" y="1265"/>
                  </a:moveTo>
                  <a:lnTo>
                    <a:pt x="372" y="1265"/>
                  </a:lnTo>
                  <a:lnTo>
                    <a:pt x="411" y="1253"/>
                  </a:lnTo>
                  <a:lnTo>
                    <a:pt x="445" y="1241"/>
                  </a:lnTo>
                  <a:lnTo>
                    <a:pt x="472" y="1210"/>
                  </a:lnTo>
                  <a:lnTo>
                    <a:pt x="495" y="1173"/>
                  </a:lnTo>
                  <a:lnTo>
                    <a:pt x="509" y="1118"/>
                  </a:lnTo>
                  <a:lnTo>
                    <a:pt x="520" y="1063"/>
                  </a:lnTo>
                  <a:lnTo>
                    <a:pt x="526" y="1001"/>
                  </a:lnTo>
                  <a:lnTo>
                    <a:pt x="529" y="934"/>
                  </a:lnTo>
                  <a:lnTo>
                    <a:pt x="526" y="866"/>
                  </a:lnTo>
                  <a:lnTo>
                    <a:pt x="521" y="805"/>
                  </a:lnTo>
                  <a:lnTo>
                    <a:pt x="512" y="749"/>
                  </a:lnTo>
                  <a:lnTo>
                    <a:pt x="500" y="700"/>
                  </a:lnTo>
                  <a:lnTo>
                    <a:pt x="480" y="657"/>
                  </a:lnTo>
                  <a:lnTo>
                    <a:pt x="455" y="626"/>
                  </a:lnTo>
                  <a:lnTo>
                    <a:pt x="422" y="608"/>
                  </a:lnTo>
                  <a:lnTo>
                    <a:pt x="385" y="602"/>
                  </a:lnTo>
                  <a:lnTo>
                    <a:pt x="299" y="602"/>
                  </a:lnTo>
                  <a:lnTo>
                    <a:pt x="299" y="1265"/>
                  </a:lnTo>
                  <a:close/>
                  <a:moveTo>
                    <a:pt x="0" y="0"/>
                  </a:moveTo>
                  <a:lnTo>
                    <a:pt x="496" y="0"/>
                  </a:lnTo>
                  <a:lnTo>
                    <a:pt x="571" y="12"/>
                  </a:lnTo>
                  <a:lnTo>
                    <a:pt x="638" y="55"/>
                  </a:lnTo>
                  <a:lnTo>
                    <a:pt x="694" y="129"/>
                  </a:lnTo>
                  <a:lnTo>
                    <a:pt x="739" y="233"/>
                  </a:lnTo>
                  <a:lnTo>
                    <a:pt x="773" y="368"/>
                  </a:lnTo>
                  <a:lnTo>
                    <a:pt x="798" y="522"/>
                  </a:lnTo>
                  <a:lnTo>
                    <a:pt x="812" y="706"/>
                  </a:lnTo>
                  <a:lnTo>
                    <a:pt x="818" y="909"/>
                  </a:lnTo>
                  <a:lnTo>
                    <a:pt x="812" y="1124"/>
                  </a:lnTo>
                  <a:lnTo>
                    <a:pt x="796" y="1309"/>
                  </a:lnTo>
                  <a:lnTo>
                    <a:pt x="770" y="1468"/>
                  </a:lnTo>
                  <a:lnTo>
                    <a:pt x="731" y="1610"/>
                  </a:lnTo>
                  <a:lnTo>
                    <a:pt x="680" y="1720"/>
                  </a:lnTo>
                  <a:lnTo>
                    <a:pt x="618" y="1806"/>
                  </a:lnTo>
                  <a:lnTo>
                    <a:pt x="545" y="1849"/>
                  </a:lnTo>
                  <a:lnTo>
                    <a:pt x="462" y="1868"/>
                  </a:lnTo>
                  <a:lnTo>
                    <a:pt x="299" y="1868"/>
                  </a:lnTo>
                  <a:lnTo>
                    <a:pt x="299" y="2974"/>
                  </a:lnTo>
                  <a:lnTo>
                    <a:pt x="0" y="29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0520" y="663480"/>
              <a:ext cx="341280" cy="1071720"/>
            </a:xfrm>
            <a:custGeom>
              <a:avLst/>
              <a:gdLst/>
              <a:ahLst/>
              <a:rect l="l" t="t" r="r" b="b"/>
              <a:pathLst>
                <a:path w="948" h="2975">
                  <a:moveTo>
                    <a:pt x="298" y="1198"/>
                  </a:moveTo>
                  <a:lnTo>
                    <a:pt x="424" y="1198"/>
                  </a:lnTo>
                  <a:lnTo>
                    <a:pt x="437" y="1198"/>
                  </a:lnTo>
                  <a:lnTo>
                    <a:pt x="455" y="1186"/>
                  </a:lnTo>
                  <a:lnTo>
                    <a:pt x="475" y="1173"/>
                  </a:lnTo>
                  <a:lnTo>
                    <a:pt x="504" y="1161"/>
                  </a:lnTo>
                  <a:lnTo>
                    <a:pt x="517" y="1149"/>
                  </a:lnTo>
                  <a:lnTo>
                    <a:pt x="529" y="1124"/>
                  </a:lnTo>
                  <a:lnTo>
                    <a:pt x="540" y="1100"/>
                  </a:lnTo>
                  <a:lnTo>
                    <a:pt x="551" y="1063"/>
                  </a:lnTo>
                  <a:lnTo>
                    <a:pt x="559" y="1026"/>
                  </a:lnTo>
                  <a:lnTo>
                    <a:pt x="565" y="983"/>
                  </a:lnTo>
                  <a:lnTo>
                    <a:pt x="570" y="940"/>
                  </a:lnTo>
                  <a:lnTo>
                    <a:pt x="571" y="897"/>
                  </a:lnTo>
                  <a:lnTo>
                    <a:pt x="568" y="823"/>
                  </a:lnTo>
                  <a:lnTo>
                    <a:pt x="562" y="762"/>
                  </a:lnTo>
                  <a:lnTo>
                    <a:pt x="553" y="712"/>
                  </a:lnTo>
                  <a:lnTo>
                    <a:pt x="542" y="669"/>
                  </a:lnTo>
                  <a:lnTo>
                    <a:pt x="523" y="633"/>
                  </a:lnTo>
                  <a:lnTo>
                    <a:pt x="497" y="608"/>
                  </a:lnTo>
                  <a:lnTo>
                    <a:pt x="467" y="596"/>
                  </a:lnTo>
                  <a:lnTo>
                    <a:pt x="429" y="596"/>
                  </a:lnTo>
                  <a:lnTo>
                    <a:pt x="298" y="596"/>
                  </a:lnTo>
                  <a:lnTo>
                    <a:pt x="298" y="1198"/>
                  </a:lnTo>
                  <a:close/>
                  <a:moveTo>
                    <a:pt x="0" y="2974"/>
                  </a:moveTo>
                  <a:lnTo>
                    <a:pt x="0" y="0"/>
                  </a:lnTo>
                  <a:lnTo>
                    <a:pt x="495" y="0"/>
                  </a:lnTo>
                  <a:lnTo>
                    <a:pt x="559" y="0"/>
                  </a:lnTo>
                  <a:lnTo>
                    <a:pt x="617" y="12"/>
                  </a:lnTo>
                  <a:lnTo>
                    <a:pt x="666" y="36"/>
                  </a:lnTo>
                  <a:lnTo>
                    <a:pt x="708" y="73"/>
                  </a:lnTo>
                  <a:lnTo>
                    <a:pt x="741" y="116"/>
                  </a:lnTo>
                  <a:lnTo>
                    <a:pt x="773" y="172"/>
                  </a:lnTo>
                  <a:lnTo>
                    <a:pt x="800" y="245"/>
                  </a:lnTo>
                  <a:lnTo>
                    <a:pt x="825" y="344"/>
                  </a:lnTo>
                  <a:lnTo>
                    <a:pt x="845" y="442"/>
                  </a:lnTo>
                  <a:lnTo>
                    <a:pt x="859" y="559"/>
                  </a:lnTo>
                  <a:lnTo>
                    <a:pt x="866" y="682"/>
                  </a:lnTo>
                  <a:lnTo>
                    <a:pt x="870" y="823"/>
                  </a:lnTo>
                  <a:lnTo>
                    <a:pt x="866" y="940"/>
                  </a:lnTo>
                  <a:lnTo>
                    <a:pt x="860" y="1050"/>
                  </a:lnTo>
                  <a:lnTo>
                    <a:pt x="851" y="1155"/>
                  </a:lnTo>
                  <a:lnTo>
                    <a:pt x="837" y="1247"/>
                  </a:lnTo>
                  <a:lnTo>
                    <a:pt x="815" y="1333"/>
                  </a:lnTo>
                  <a:lnTo>
                    <a:pt x="793" y="1413"/>
                  </a:lnTo>
                  <a:lnTo>
                    <a:pt x="768" y="1474"/>
                  </a:lnTo>
                  <a:lnTo>
                    <a:pt x="741" y="1536"/>
                  </a:lnTo>
                  <a:lnTo>
                    <a:pt x="719" y="1573"/>
                  </a:lnTo>
                  <a:lnTo>
                    <a:pt x="694" y="1603"/>
                  </a:lnTo>
                  <a:lnTo>
                    <a:pt x="666" y="1634"/>
                  </a:lnTo>
                  <a:lnTo>
                    <a:pt x="636" y="1659"/>
                  </a:lnTo>
                  <a:lnTo>
                    <a:pt x="660" y="1683"/>
                  </a:lnTo>
                  <a:lnTo>
                    <a:pt x="680" y="1708"/>
                  </a:lnTo>
                  <a:lnTo>
                    <a:pt x="697" y="1739"/>
                  </a:lnTo>
                  <a:lnTo>
                    <a:pt x="714" y="1769"/>
                  </a:lnTo>
                  <a:lnTo>
                    <a:pt x="722" y="1788"/>
                  </a:lnTo>
                  <a:lnTo>
                    <a:pt x="733" y="1825"/>
                  </a:lnTo>
                  <a:lnTo>
                    <a:pt x="745" y="1868"/>
                  </a:lnTo>
                  <a:lnTo>
                    <a:pt x="761" y="1923"/>
                  </a:lnTo>
                  <a:lnTo>
                    <a:pt x="775" y="1978"/>
                  </a:lnTo>
                  <a:lnTo>
                    <a:pt x="787" y="2027"/>
                  </a:lnTo>
                  <a:lnTo>
                    <a:pt x="795" y="2077"/>
                  </a:lnTo>
                  <a:lnTo>
                    <a:pt x="803" y="2114"/>
                  </a:lnTo>
                  <a:lnTo>
                    <a:pt x="947" y="2974"/>
                  </a:lnTo>
                  <a:lnTo>
                    <a:pt x="610" y="2974"/>
                  </a:lnTo>
                  <a:lnTo>
                    <a:pt x="452" y="2064"/>
                  </a:lnTo>
                  <a:lnTo>
                    <a:pt x="436" y="1978"/>
                  </a:lnTo>
                  <a:lnTo>
                    <a:pt x="421" y="1917"/>
                  </a:lnTo>
                  <a:lnTo>
                    <a:pt x="408" y="1862"/>
                  </a:lnTo>
                  <a:lnTo>
                    <a:pt x="397" y="1831"/>
                  </a:lnTo>
                  <a:lnTo>
                    <a:pt x="380" y="1806"/>
                  </a:lnTo>
                  <a:lnTo>
                    <a:pt x="363" y="1782"/>
                  </a:lnTo>
                  <a:lnTo>
                    <a:pt x="345" y="1763"/>
                  </a:lnTo>
                  <a:lnTo>
                    <a:pt x="326" y="1763"/>
                  </a:lnTo>
                  <a:lnTo>
                    <a:pt x="298" y="1763"/>
                  </a:lnTo>
                  <a:lnTo>
                    <a:pt x="298" y="2974"/>
                  </a:lnTo>
                  <a:lnTo>
                    <a:pt x="0" y="2974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2680" y="646200"/>
              <a:ext cx="360360" cy="1106280"/>
            </a:xfrm>
            <a:custGeom>
              <a:avLst/>
              <a:gdLst/>
              <a:ahLst/>
              <a:rect l="l" t="t" r="r" b="b"/>
              <a:pathLst>
                <a:path w="1001" h="3074">
                  <a:moveTo>
                    <a:pt x="298" y="1537"/>
                  </a:moveTo>
                  <a:lnTo>
                    <a:pt x="301" y="1746"/>
                  </a:lnTo>
                  <a:lnTo>
                    <a:pt x="310" y="1924"/>
                  </a:lnTo>
                  <a:lnTo>
                    <a:pt x="328" y="2071"/>
                  </a:lnTo>
                  <a:lnTo>
                    <a:pt x="354" y="2188"/>
                  </a:lnTo>
                  <a:lnTo>
                    <a:pt x="382" y="2274"/>
                  </a:lnTo>
                  <a:lnTo>
                    <a:pt x="417" y="2336"/>
                  </a:lnTo>
                  <a:lnTo>
                    <a:pt x="456" y="2366"/>
                  </a:lnTo>
                  <a:lnTo>
                    <a:pt x="501" y="2385"/>
                  </a:lnTo>
                  <a:lnTo>
                    <a:pt x="545" y="2366"/>
                  </a:lnTo>
                  <a:lnTo>
                    <a:pt x="585" y="2336"/>
                  </a:lnTo>
                  <a:lnTo>
                    <a:pt x="621" y="2274"/>
                  </a:lnTo>
                  <a:lnTo>
                    <a:pt x="651" y="2194"/>
                  </a:lnTo>
                  <a:lnTo>
                    <a:pt x="673" y="2077"/>
                  </a:lnTo>
                  <a:lnTo>
                    <a:pt x="689" y="1924"/>
                  </a:lnTo>
                  <a:lnTo>
                    <a:pt x="699" y="1733"/>
                  </a:lnTo>
                  <a:lnTo>
                    <a:pt x="703" y="1500"/>
                  </a:lnTo>
                  <a:lnTo>
                    <a:pt x="699" y="1303"/>
                  </a:lnTo>
                  <a:lnTo>
                    <a:pt x="689" y="1137"/>
                  </a:lnTo>
                  <a:lnTo>
                    <a:pt x="673" y="996"/>
                  </a:lnTo>
                  <a:lnTo>
                    <a:pt x="649" y="885"/>
                  </a:lnTo>
                  <a:lnTo>
                    <a:pt x="619" y="799"/>
                  </a:lnTo>
                  <a:lnTo>
                    <a:pt x="582" y="738"/>
                  </a:lnTo>
                  <a:lnTo>
                    <a:pt x="542" y="707"/>
                  </a:lnTo>
                  <a:lnTo>
                    <a:pt x="498" y="695"/>
                  </a:lnTo>
                  <a:lnTo>
                    <a:pt x="453" y="707"/>
                  </a:lnTo>
                  <a:lnTo>
                    <a:pt x="415" y="738"/>
                  </a:lnTo>
                  <a:lnTo>
                    <a:pt x="382" y="805"/>
                  </a:lnTo>
                  <a:lnTo>
                    <a:pt x="354" y="891"/>
                  </a:lnTo>
                  <a:lnTo>
                    <a:pt x="328" y="1002"/>
                  </a:lnTo>
                  <a:lnTo>
                    <a:pt x="310" y="1150"/>
                  </a:lnTo>
                  <a:lnTo>
                    <a:pt x="301" y="1328"/>
                  </a:lnTo>
                  <a:lnTo>
                    <a:pt x="298" y="1537"/>
                  </a:lnTo>
                  <a:close/>
                  <a:moveTo>
                    <a:pt x="0" y="1537"/>
                  </a:moveTo>
                  <a:lnTo>
                    <a:pt x="8" y="1186"/>
                  </a:lnTo>
                  <a:lnTo>
                    <a:pt x="32" y="885"/>
                  </a:lnTo>
                  <a:lnTo>
                    <a:pt x="73" y="621"/>
                  </a:lnTo>
                  <a:lnTo>
                    <a:pt x="132" y="400"/>
                  </a:lnTo>
                  <a:lnTo>
                    <a:pt x="203" y="222"/>
                  </a:lnTo>
                  <a:lnTo>
                    <a:pt x="288" y="99"/>
                  </a:lnTo>
                  <a:lnTo>
                    <a:pt x="387" y="25"/>
                  </a:lnTo>
                  <a:lnTo>
                    <a:pt x="498" y="0"/>
                  </a:lnTo>
                  <a:lnTo>
                    <a:pt x="610" y="25"/>
                  </a:lnTo>
                  <a:lnTo>
                    <a:pt x="711" y="99"/>
                  </a:lnTo>
                  <a:lnTo>
                    <a:pt x="797" y="222"/>
                  </a:lnTo>
                  <a:lnTo>
                    <a:pt x="870" y="394"/>
                  </a:lnTo>
                  <a:lnTo>
                    <a:pt x="927" y="609"/>
                  </a:lnTo>
                  <a:lnTo>
                    <a:pt x="967" y="873"/>
                  </a:lnTo>
                  <a:lnTo>
                    <a:pt x="991" y="1174"/>
                  </a:lnTo>
                  <a:lnTo>
                    <a:pt x="1000" y="1512"/>
                  </a:lnTo>
                  <a:lnTo>
                    <a:pt x="996" y="1758"/>
                  </a:lnTo>
                  <a:lnTo>
                    <a:pt x="986" y="1979"/>
                  </a:lnTo>
                  <a:lnTo>
                    <a:pt x="967" y="2182"/>
                  </a:lnTo>
                  <a:lnTo>
                    <a:pt x="944" y="2366"/>
                  </a:lnTo>
                  <a:lnTo>
                    <a:pt x="912" y="2520"/>
                  </a:lnTo>
                  <a:lnTo>
                    <a:pt x="873" y="2661"/>
                  </a:lnTo>
                  <a:lnTo>
                    <a:pt x="829" y="2784"/>
                  </a:lnTo>
                  <a:lnTo>
                    <a:pt x="779" y="2883"/>
                  </a:lnTo>
                  <a:lnTo>
                    <a:pt x="722" y="2962"/>
                  </a:lnTo>
                  <a:lnTo>
                    <a:pt x="657" y="3024"/>
                  </a:lnTo>
                  <a:lnTo>
                    <a:pt x="587" y="3055"/>
                  </a:lnTo>
                  <a:lnTo>
                    <a:pt x="511" y="3073"/>
                  </a:lnTo>
                  <a:lnTo>
                    <a:pt x="431" y="3055"/>
                  </a:lnTo>
                  <a:lnTo>
                    <a:pt x="361" y="3030"/>
                  </a:lnTo>
                  <a:lnTo>
                    <a:pt x="296" y="2981"/>
                  </a:lnTo>
                  <a:lnTo>
                    <a:pt x="240" y="2907"/>
                  </a:lnTo>
                  <a:lnTo>
                    <a:pt x="188" y="2815"/>
                  </a:lnTo>
                  <a:lnTo>
                    <a:pt x="143" y="2704"/>
                  </a:lnTo>
                  <a:lnTo>
                    <a:pt x="102" y="2563"/>
                  </a:lnTo>
                  <a:lnTo>
                    <a:pt x="67" y="2403"/>
                  </a:lnTo>
                  <a:lnTo>
                    <a:pt x="37" y="2219"/>
                  </a:lnTo>
                  <a:lnTo>
                    <a:pt x="15" y="2010"/>
                  </a:lnTo>
                  <a:lnTo>
                    <a:pt x="3" y="1783"/>
                  </a:lnTo>
                  <a:lnTo>
                    <a:pt x="0" y="1537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36800" y="663480"/>
              <a:ext cx="376200" cy="1071720"/>
            </a:xfrm>
            <a:custGeom>
              <a:avLst/>
              <a:gdLst/>
              <a:ahLst/>
              <a:rect l="l" t="t" r="r" b="b"/>
              <a:pathLst>
                <a:path w="1047" h="2975">
                  <a:moveTo>
                    <a:pt x="0" y="0"/>
                  </a:moveTo>
                  <a:lnTo>
                    <a:pt x="313" y="0"/>
                  </a:lnTo>
                  <a:lnTo>
                    <a:pt x="530" y="2138"/>
                  </a:lnTo>
                  <a:lnTo>
                    <a:pt x="744" y="0"/>
                  </a:lnTo>
                  <a:lnTo>
                    <a:pt x="1046" y="0"/>
                  </a:lnTo>
                  <a:lnTo>
                    <a:pt x="688" y="2974"/>
                  </a:lnTo>
                  <a:lnTo>
                    <a:pt x="365" y="29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47920" y="380880"/>
              <a:ext cx="293760" cy="1354320"/>
            </a:xfrm>
            <a:custGeom>
              <a:avLst/>
              <a:gdLst/>
              <a:ahLst/>
              <a:rect l="l" t="t" r="r" b="b"/>
              <a:pathLst>
                <a:path w="814" h="3762">
                  <a:moveTo>
                    <a:pt x="380" y="0"/>
                  </a:moveTo>
                  <a:lnTo>
                    <a:pt x="611" y="0"/>
                  </a:lnTo>
                  <a:lnTo>
                    <a:pt x="399" y="608"/>
                  </a:lnTo>
                  <a:lnTo>
                    <a:pt x="270" y="608"/>
                  </a:lnTo>
                  <a:lnTo>
                    <a:pt x="380" y="0"/>
                  </a:lnTo>
                  <a:close/>
                  <a:moveTo>
                    <a:pt x="0" y="787"/>
                  </a:moveTo>
                  <a:lnTo>
                    <a:pt x="798" y="787"/>
                  </a:lnTo>
                  <a:lnTo>
                    <a:pt x="798" y="1420"/>
                  </a:lnTo>
                  <a:lnTo>
                    <a:pt x="298" y="1420"/>
                  </a:lnTo>
                  <a:lnTo>
                    <a:pt x="298" y="1887"/>
                  </a:lnTo>
                  <a:lnTo>
                    <a:pt x="761" y="1887"/>
                  </a:lnTo>
                  <a:lnTo>
                    <a:pt x="761" y="2495"/>
                  </a:lnTo>
                  <a:lnTo>
                    <a:pt x="298" y="2495"/>
                  </a:lnTo>
                  <a:lnTo>
                    <a:pt x="298" y="3085"/>
                  </a:lnTo>
                  <a:lnTo>
                    <a:pt x="813" y="3085"/>
                  </a:lnTo>
                  <a:lnTo>
                    <a:pt x="813" y="3761"/>
                  </a:lnTo>
                  <a:lnTo>
                    <a:pt x="0" y="3761"/>
                  </a:lnTo>
                  <a:lnTo>
                    <a:pt x="0" y="787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00360" y="663480"/>
              <a:ext cx="341280" cy="1071720"/>
            </a:xfrm>
            <a:custGeom>
              <a:avLst/>
              <a:gdLst/>
              <a:ahLst/>
              <a:rect l="l" t="t" r="r" b="b"/>
              <a:pathLst>
                <a:path w="949" h="2975">
                  <a:moveTo>
                    <a:pt x="299" y="1198"/>
                  </a:moveTo>
                  <a:lnTo>
                    <a:pt x="425" y="1198"/>
                  </a:lnTo>
                  <a:lnTo>
                    <a:pt x="437" y="1198"/>
                  </a:lnTo>
                  <a:lnTo>
                    <a:pt x="456" y="1186"/>
                  </a:lnTo>
                  <a:lnTo>
                    <a:pt x="476" y="1173"/>
                  </a:lnTo>
                  <a:lnTo>
                    <a:pt x="504" y="1161"/>
                  </a:lnTo>
                  <a:lnTo>
                    <a:pt x="517" y="1149"/>
                  </a:lnTo>
                  <a:lnTo>
                    <a:pt x="530" y="1124"/>
                  </a:lnTo>
                  <a:lnTo>
                    <a:pt x="541" y="1100"/>
                  </a:lnTo>
                  <a:lnTo>
                    <a:pt x="552" y="1063"/>
                  </a:lnTo>
                  <a:lnTo>
                    <a:pt x="560" y="1026"/>
                  </a:lnTo>
                  <a:lnTo>
                    <a:pt x="566" y="983"/>
                  </a:lnTo>
                  <a:lnTo>
                    <a:pt x="569" y="940"/>
                  </a:lnTo>
                  <a:lnTo>
                    <a:pt x="571" y="897"/>
                  </a:lnTo>
                  <a:lnTo>
                    <a:pt x="568" y="823"/>
                  </a:lnTo>
                  <a:lnTo>
                    <a:pt x="563" y="762"/>
                  </a:lnTo>
                  <a:lnTo>
                    <a:pt x="554" y="712"/>
                  </a:lnTo>
                  <a:lnTo>
                    <a:pt x="543" y="669"/>
                  </a:lnTo>
                  <a:lnTo>
                    <a:pt x="524" y="633"/>
                  </a:lnTo>
                  <a:lnTo>
                    <a:pt x="498" y="608"/>
                  </a:lnTo>
                  <a:lnTo>
                    <a:pt x="468" y="596"/>
                  </a:lnTo>
                  <a:lnTo>
                    <a:pt x="429" y="596"/>
                  </a:lnTo>
                  <a:lnTo>
                    <a:pt x="299" y="596"/>
                  </a:lnTo>
                  <a:lnTo>
                    <a:pt x="299" y="1198"/>
                  </a:lnTo>
                  <a:close/>
                  <a:moveTo>
                    <a:pt x="0" y="2974"/>
                  </a:moveTo>
                  <a:lnTo>
                    <a:pt x="0" y="0"/>
                  </a:lnTo>
                  <a:lnTo>
                    <a:pt x="496" y="0"/>
                  </a:lnTo>
                  <a:lnTo>
                    <a:pt x="560" y="0"/>
                  </a:lnTo>
                  <a:lnTo>
                    <a:pt x="617" y="12"/>
                  </a:lnTo>
                  <a:lnTo>
                    <a:pt x="667" y="36"/>
                  </a:lnTo>
                  <a:lnTo>
                    <a:pt x="708" y="73"/>
                  </a:lnTo>
                  <a:lnTo>
                    <a:pt x="742" y="116"/>
                  </a:lnTo>
                  <a:lnTo>
                    <a:pt x="773" y="172"/>
                  </a:lnTo>
                  <a:lnTo>
                    <a:pt x="801" y="245"/>
                  </a:lnTo>
                  <a:lnTo>
                    <a:pt x="826" y="344"/>
                  </a:lnTo>
                  <a:lnTo>
                    <a:pt x="844" y="442"/>
                  </a:lnTo>
                  <a:lnTo>
                    <a:pt x="859" y="559"/>
                  </a:lnTo>
                  <a:lnTo>
                    <a:pt x="867" y="682"/>
                  </a:lnTo>
                  <a:lnTo>
                    <a:pt x="870" y="823"/>
                  </a:lnTo>
                  <a:lnTo>
                    <a:pt x="867" y="940"/>
                  </a:lnTo>
                  <a:lnTo>
                    <a:pt x="861" y="1050"/>
                  </a:lnTo>
                  <a:lnTo>
                    <a:pt x="852" y="1155"/>
                  </a:lnTo>
                  <a:lnTo>
                    <a:pt x="837" y="1247"/>
                  </a:lnTo>
                  <a:lnTo>
                    <a:pt x="816" y="1333"/>
                  </a:lnTo>
                  <a:lnTo>
                    <a:pt x="794" y="1413"/>
                  </a:lnTo>
                  <a:lnTo>
                    <a:pt x="768" y="1474"/>
                  </a:lnTo>
                  <a:lnTo>
                    <a:pt x="742" y="1536"/>
                  </a:lnTo>
                  <a:lnTo>
                    <a:pt x="720" y="1573"/>
                  </a:lnTo>
                  <a:lnTo>
                    <a:pt x="695" y="1603"/>
                  </a:lnTo>
                  <a:lnTo>
                    <a:pt x="667" y="1634"/>
                  </a:lnTo>
                  <a:lnTo>
                    <a:pt x="636" y="1659"/>
                  </a:lnTo>
                  <a:lnTo>
                    <a:pt x="661" y="1683"/>
                  </a:lnTo>
                  <a:lnTo>
                    <a:pt x="681" y="1708"/>
                  </a:lnTo>
                  <a:lnTo>
                    <a:pt x="698" y="1739"/>
                  </a:lnTo>
                  <a:lnTo>
                    <a:pt x="714" y="1769"/>
                  </a:lnTo>
                  <a:lnTo>
                    <a:pt x="723" y="1788"/>
                  </a:lnTo>
                  <a:lnTo>
                    <a:pt x="734" y="1825"/>
                  </a:lnTo>
                  <a:lnTo>
                    <a:pt x="746" y="1868"/>
                  </a:lnTo>
                  <a:lnTo>
                    <a:pt x="762" y="1923"/>
                  </a:lnTo>
                  <a:lnTo>
                    <a:pt x="774" y="1978"/>
                  </a:lnTo>
                  <a:lnTo>
                    <a:pt x="788" y="2027"/>
                  </a:lnTo>
                  <a:lnTo>
                    <a:pt x="796" y="2077"/>
                  </a:lnTo>
                  <a:lnTo>
                    <a:pt x="804" y="2114"/>
                  </a:lnTo>
                  <a:lnTo>
                    <a:pt x="948" y="2974"/>
                  </a:lnTo>
                  <a:lnTo>
                    <a:pt x="611" y="2974"/>
                  </a:lnTo>
                  <a:lnTo>
                    <a:pt x="451" y="2064"/>
                  </a:lnTo>
                  <a:lnTo>
                    <a:pt x="436" y="1978"/>
                  </a:lnTo>
                  <a:lnTo>
                    <a:pt x="422" y="1917"/>
                  </a:lnTo>
                  <a:lnTo>
                    <a:pt x="409" y="1862"/>
                  </a:lnTo>
                  <a:lnTo>
                    <a:pt x="398" y="1831"/>
                  </a:lnTo>
                  <a:lnTo>
                    <a:pt x="380" y="1806"/>
                  </a:lnTo>
                  <a:lnTo>
                    <a:pt x="364" y="1782"/>
                  </a:lnTo>
                  <a:lnTo>
                    <a:pt x="345" y="1763"/>
                  </a:lnTo>
                  <a:lnTo>
                    <a:pt x="327" y="1763"/>
                  </a:lnTo>
                  <a:lnTo>
                    <a:pt x="299" y="1763"/>
                  </a:lnTo>
                  <a:lnTo>
                    <a:pt x="299" y="2974"/>
                  </a:lnTo>
                  <a:lnTo>
                    <a:pt x="0" y="2974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6560" y="663480"/>
              <a:ext cx="322200" cy="1071720"/>
            </a:xfrm>
            <a:custGeom>
              <a:avLst/>
              <a:gdLst/>
              <a:ahLst/>
              <a:rect l="l" t="t" r="r" b="b"/>
              <a:pathLst>
                <a:path w="894" h="2975">
                  <a:moveTo>
                    <a:pt x="301" y="1167"/>
                  </a:moveTo>
                  <a:lnTo>
                    <a:pt x="432" y="1167"/>
                  </a:lnTo>
                  <a:lnTo>
                    <a:pt x="464" y="1161"/>
                  </a:lnTo>
                  <a:lnTo>
                    <a:pt x="491" y="1149"/>
                  </a:lnTo>
                  <a:lnTo>
                    <a:pt x="511" y="1124"/>
                  </a:lnTo>
                  <a:lnTo>
                    <a:pt x="529" y="1093"/>
                  </a:lnTo>
                  <a:lnTo>
                    <a:pt x="540" y="1050"/>
                  </a:lnTo>
                  <a:lnTo>
                    <a:pt x="548" y="1001"/>
                  </a:lnTo>
                  <a:lnTo>
                    <a:pt x="553" y="940"/>
                  </a:lnTo>
                  <a:lnTo>
                    <a:pt x="556" y="878"/>
                  </a:lnTo>
                  <a:lnTo>
                    <a:pt x="553" y="811"/>
                  </a:lnTo>
                  <a:lnTo>
                    <a:pt x="548" y="755"/>
                  </a:lnTo>
                  <a:lnTo>
                    <a:pt x="540" y="712"/>
                  </a:lnTo>
                  <a:lnTo>
                    <a:pt x="529" y="676"/>
                  </a:lnTo>
                  <a:lnTo>
                    <a:pt x="513" y="639"/>
                  </a:lnTo>
                  <a:lnTo>
                    <a:pt x="491" y="614"/>
                  </a:lnTo>
                  <a:lnTo>
                    <a:pt x="466" y="602"/>
                  </a:lnTo>
                  <a:lnTo>
                    <a:pt x="433" y="602"/>
                  </a:lnTo>
                  <a:lnTo>
                    <a:pt x="301" y="602"/>
                  </a:lnTo>
                  <a:lnTo>
                    <a:pt x="301" y="1167"/>
                  </a:lnTo>
                  <a:close/>
                  <a:moveTo>
                    <a:pt x="301" y="2335"/>
                  </a:moveTo>
                  <a:lnTo>
                    <a:pt x="454" y="2335"/>
                  </a:lnTo>
                  <a:lnTo>
                    <a:pt x="489" y="2322"/>
                  </a:lnTo>
                  <a:lnTo>
                    <a:pt x="519" y="2310"/>
                  </a:lnTo>
                  <a:lnTo>
                    <a:pt x="543" y="2286"/>
                  </a:lnTo>
                  <a:lnTo>
                    <a:pt x="562" y="2249"/>
                  </a:lnTo>
                  <a:lnTo>
                    <a:pt x="575" y="2200"/>
                  </a:lnTo>
                  <a:lnTo>
                    <a:pt x="584" y="2150"/>
                  </a:lnTo>
                  <a:lnTo>
                    <a:pt x="590" y="2089"/>
                  </a:lnTo>
                  <a:lnTo>
                    <a:pt x="595" y="2027"/>
                  </a:lnTo>
                  <a:lnTo>
                    <a:pt x="590" y="1960"/>
                  </a:lnTo>
                  <a:lnTo>
                    <a:pt x="586" y="1905"/>
                  </a:lnTo>
                  <a:lnTo>
                    <a:pt x="576" y="1849"/>
                  </a:lnTo>
                  <a:lnTo>
                    <a:pt x="564" y="1806"/>
                  </a:lnTo>
                  <a:lnTo>
                    <a:pt x="545" y="1769"/>
                  </a:lnTo>
                  <a:lnTo>
                    <a:pt x="519" y="1745"/>
                  </a:lnTo>
                  <a:lnTo>
                    <a:pt x="489" y="1733"/>
                  </a:lnTo>
                  <a:lnTo>
                    <a:pt x="452" y="1733"/>
                  </a:lnTo>
                  <a:lnTo>
                    <a:pt x="301" y="1733"/>
                  </a:lnTo>
                  <a:lnTo>
                    <a:pt x="301" y="2335"/>
                  </a:lnTo>
                  <a:close/>
                  <a:moveTo>
                    <a:pt x="0" y="0"/>
                  </a:moveTo>
                  <a:lnTo>
                    <a:pt x="559" y="0"/>
                  </a:lnTo>
                  <a:lnTo>
                    <a:pt x="624" y="6"/>
                  </a:lnTo>
                  <a:lnTo>
                    <a:pt x="683" y="49"/>
                  </a:lnTo>
                  <a:lnTo>
                    <a:pt x="733" y="116"/>
                  </a:lnTo>
                  <a:lnTo>
                    <a:pt x="774" y="209"/>
                  </a:lnTo>
                  <a:lnTo>
                    <a:pt x="806" y="319"/>
                  </a:lnTo>
                  <a:lnTo>
                    <a:pt x="829" y="442"/>
                  </a:lnTo>
                  <a:lnTo>
                    <a:pt x="844" y="583"/>
                  </a:lnTo>
                  <a:lnTo>
                    <a:pt x="848" y="737"/>
                  </a:lnTo>
                  <a:lnTo>
                    <a:pt x="844" y="866"/>
                  </a:lnTo>
                  <a:lnTo>
                    <a:pt x="834" y="983"/>
                  </a:lnTo>
                  <a:lnTo>
                    <a:pt x="818" y="1093"/>
                  </a:lnTo>
                  <a:lnTo>
                    <a:pt x="795" y="1192"/>
                  </a:lnTo>
                  <a:lnTo>
                    <a:pt x="774" y="1247"/>
                  </a:lnTo>
                  <a:lnTo>
                    <a:pt x="750" y="1302"/>
                  </a:lnTo>
                  <a:lnTo>
                    <a:pt x="722" y="1345"/>
                  </a:lnTo>
                  <a:lnTo>
                    <a:pt x="691" y="1395"/>
                  </a:lnTo>
                  <a:lnTo>
                    <a:pt x="739" y="1431"/>
                  </a:lnTo>
                  <a:lnTo>
                    <a:pt x="780" y="1487"/>
                  </a:lnTo>
                  <a:lnTo>
                    <a:pt x="815" y="1560"/>
                  </a:lnTo>
                  <a:lnTo>
                    <a:pt x="844" y="1653"/>
                  </a:lnTo>
                  <a:lnTo>
                    <a:pt x="865" y="1751"/>
                  </a:lnTo>
                  <a:lnTo>
                    <a:pt x="881" y="1862"/>
                  </a:lnTo>
                  <a:lnTo>
                    <a:pt x="890" y="1991"/>
                  </a:lnTo>
                  <a:lnTo>
                    <a:pt x="893" y="2126"/>
                  </a:lnTo>
                  <a:lnTo>
                    <a:pt x="890" y="2236"/>
                  </a:lnTo>
                  <a:lnTo>
                    <a:pt x="884" y="2341"/>
                  </a:lnTo>
                  <a:lnTo>
                    <a:pt x="873" y="2439"/>
                  </a:lnTo>
                  <a:lnTo>
                    <a:pt x="859" y="2538"/>
                  </a:lnTo>
                  <a:lnTo>
                    <a:pt x="837" y="2624"/>
                  </a:lnTo>
                  <a:lnTo>
                    <a:pt x="815" y="2703"/>
                  </a:lnTo>
                  <a:lnTo>
                    <a:pt x="789" y="2771"/>
                  </a:lnTo>
                  <a:lnTo>
                    <a:pt x="763" y="2833"/>
                  </a:lnTo>
                  <a:lnTo>
                    <a:pt x="741" y="2863"/>
                  </a:lnTo>
                  <a:lnTo>
                    <a:pt x="715" y="2888"/>
                  </a:lnTo>
                  <a:lnTo>
                    <a:pt x="683" y="2912"/>
                  </a:lnTo>
                  <a:lnTo>
                    <a:pt x="649" y="2931"/>
                  </a:lnTo>
                  <a:lnTo>
                    <a:pt x="602" y="2949"/>
                  </a:lnTo>
                  <a:lnTo>
                    <a:pt x="564" y="2955"/>
                  </a:lnTo>
                  <a:lnTo>
                    <a:pt x="536" y="2968"/>
                  </a:lnTo>
                  <a:lnTo>
                    <a:pt x="516" y="2974"/>
                  </a:lnTo>
                  <a:lnTo>
                    <a:pt x="0" y="297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7440" y="663480"/>
              <a:ext cx="108000" cy="1071720"/>
            </a:xfrm>
            <a:custGeom>
              <a:avLst/>
              <a:gdLst/>
              <a:ahLst/>
              <a:rect l="l" t="t" r="r" b="b"/>
              <a:pathLst>
                <a:path w="299" h="2975">
                  <a:moveTo>
                    <a:pt x="0" y="0"/>
                  </a:moveTo>
                  <a:lnTo>
                    <a:pt x="298" y="0"/>
                  </a:lnTo>
                  <a:lnTo>
                    <a:pt x="298" y="2974"/>
                  </a:lnTo>
                  <a:lnTo>
                    <a:pt x="0" y="29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29160" y="646200"/>
              <a:ext cx="360360" cy="1106280"/>
            </a:xfrm>
            <a:custGeom>
              <a:avLst/>
              <a:gdLst/>
              <a:ahLst/>
              <a:rect l="l" t="t" r="r" b="b"/>
              <a:pathLst>
                <a:path w="1002" h="3074">
                  <a:moveTo>
                    <a:pt x="297" y="1537"/>
                  </a:moveTo>
                  <a:lnTo>
                    <a:pt x="300" y="1746"/>
                  </a:lnTo>
                  <a:lnTo>
                    <a:pt x="311" y="1924"/>
                  </a:lnTo>
                  <a:lnTo>
                    <a:pt x="328" y="2071"/>
                  </a:lnTo>
                  <a:lnTo>
                    <a:pt x="353" y="2188"/>
                  </a:lnTo>
                  <a:lnTo>
                    <a:pt x="382" y="2274"/>
                  </a:lnTo>
                  <a:lnTo>
                    <a:pt x="417" y="2336"/>
                  </a:lnTo>
                  <a:lnTo>
                    <a:pt x="457" y="2366"/>
                  </a:lnTo>
                  <a:lnTo>
                    <a:pt x="501" y="2385"/>
                  </a:lnTo>
                  <a:lnTo>
                    <a:pt x="545" y="2366"/>
                  </a:lnTo>
                  <a:lnTo>
                    <a:pt x="586" y="2336"/>
                  </a:lnTo>
                  <a:lnTo>
                    <a:pt x="620" y="2274"/>
                  </a:lnTo>
                  <a:lnTo>
                    <a:pt x="651" y="2194"/>
                  </a:lnTo>
                  <a:lnTo>
                    <a:pt x="673" y="2077"/>
                  </a:lnTo>
                  <a:lnTo>
                    <a:pt x="688" y="1924"/>
                  </a:lnTo>
                  <a:lnTo>
                    <a:pt x="698" y="1733"/>
                  </a:lnTo>
                  <a:lnTo>
                    <a:pt x="704" y="1500"/>
                  </a:lnTo>
                  <a:lnTo>
                    <a:pt x="698" y="1303"/>
                  </a:lnTo>
                  <a:lnTo>
                    <a:pt x="688" y="1137"/>
                  </a:lnTo>
                  <a:lnTo>
                    <a:pt x="673" y="996"/>
                  </a:lnTo>
                  <a:lnTo>
                    <a:pt x="649" y="885"/>
                  </a:lnTo>
                  <a:lnTo>
                    <a:pt x="619" y="799"/>
                  </a:lnTo>
                  <a:lnTo>
                    <a:pt x="582" y="738"/>
                  </a:lnTo>
                  <a:lnTo>
                    <a:pt x="542" y="707"/>
                  </a:lnTo>
                  <a:lnTo>
                    <a:pt x="497" y="695"/>
                  </a:lnTo>
                  <a:lnTo>
                    <a:pt x="454" y="707"/>
                  </a:lnTo>
                  <a:lnTo>
                    <a:pt x="415" y="738"/>
                  </a:lnTo>
                  <a:lnTo>
                    <a:pt x="382" y="805"/>
                  </a:lnTo>
                  <a:lnTo>
                    <a:pt x="353" y="891"/>
                  </a:lnTo>
                  <a:lnTo>
                    <a:pt x="328" y="1002"/>
                  </a:lnTo>
                  <a:lnTo>
                    <a:pt x="311" y="1150"/>
                  </a:lnTo>
                  <a:lnTo>
                    <a:pt x="300" y="1328"/>
                  </a:lnTo>
                  <a:lnTo>
                    <a:pt x="297" y="1537"/>
                  </a:lnTo>
                  <a:close/>
                  <a:moveTo>
                    <a:pt x="0" y="1537"/>
                  </a:moveTo>
                  <a:lnTo>
                    <a:pt x="8" y="1186"/>
                  </a:lnTo>
                  <a:lnTo>
                    <a:pt x="31" y="885"/>
                  </a:lnTo>
                  <a:lnTo>
                    <a:pt x="73" y="621"/>
                  </a:lnTo>
                  <a:lnTo>
                    <a:pt x="132" y="400"/>
                  </a:lnTo>
                  <a:lnTo>
                    <a:pt x="204" y="222"/>
                  </a:lnTo>
                  <a:lnTo>
                    <a:pt x="288" y="99"/>
                  </a:lnTo>
                  <a:lnTo>
                    <a:pt x="387" y="25"/>
                  </a:lnTo>
                  <a:lnTo>
                    <a:pt x="497" y="0"/>
                  </a:lnTo>
                  <a:lnTo>
                    <a:pt x="611" y="25"/>
                  </a:lnTo>
                  <a:lnTo>
                    <a:pt x="711" y="99"/>
                  </a:lnTo>
                  <a:lnTo>
                    <a:pt x="797" y="222"/>
                  </a:lnTo>
                  <a:lnTo>
                    <a:pt x="870" y="394"/>
                  </a:lnTo>
                  <a:lnTo>
                    <a:pt x="927" y="609"/>
                  </a:lnTo>
                  <a:lnTo>
                    <a:pt x="968" y="873"/>
                  </a:lnTo>
                  <a:lnTo>
                    <a:pt x="991" y="1174"/>
                  </a:lnTo>
                  <a:lnTo>
                    <a:pt x="1001" y="1512"/>
                  </a:lnTo>
                  <a:lnTo>
                    <a:pt x="996" y="1758"/>
                  </a:lnTo>
                  <a:lnTo>
                    <a:pt x="986" y="1979"/>
                  </a:lnTo>
                  <a:lnTo>
                    <a:pt x="968" y="2182"/>
                  </a:lnTo>
                  <a:lnTo>
                    <a:pt x="943" y="2366"/>
                  </a:lnTo>
                  <a:lnTo>
                    <a:pt x="912" y="2520"/>
                  </a:lnTo>
                  <a:lnTo>
                    <a:pt x="873" y="2661"/>
                  </a:lnTo>
                  <a:lnTo>
                    <a:pt x="828" y="2784"/>
                  </a:lnTo>
                  <a:lnTo>
                    <a:pt x="780" y="2883"/>
                  </a:lnTo>
                  <a:lnTo>
                    <a:pt x="722" y="2962"/>
                  </a:lnTo>
                  <a:lnTo>
                    <a:pt x="657" y="3024"/>
                  </a:lnTo>
                  <a:lnTo>
                    <a:pt x="587" y="3055"/>
                  </a:lnTo>
                  <a:lnTo>
                    <a:pt x="511" y="3073"/>
                  </a:lnTo>
                  <a:lnTo>
                    <a:pt x="431" y="3055"/>
                  </a:lnTo>
                  <a:lnTo>
                    <a:pt x="361" y="3030"/>
                  </a:lnTo>
                  <a:lnTo>
                    <a:pt x="295" y="2981"/>
                  </a:lnTo>
                  <a:lnTo>
                    <a:pt x="240" y="2907"/>
                  </a:lnTo>
                  <a:lnTo>
                    <a:pt x="188" y="2815"/>
                  </a:lnTo>
                  <a:lnTo>
                    <a:pt x="143" y="2704"/>
                  </a:lnTo>
                  <a:lnTo>
                    <a:pt x="101" y="2563"/>
                  </a:lnTo>
                  <a:lnTo>
                    <a:pt x="67" y="2403"/>
                  </a:lnTo>
                  <a:lnTo>
                    <a:pt x="36" y="2219"/>
                  </a:lnTo>
                  <a:lnTo>
                    <a:pt x="16" y="2010"/>
                  </a:lnTo>
                  <a:lnTo>
                    <a:pt x="3" y="1783"/>
                  </a:lnTo>
                  <a:lnTo>
                    <a:pt x="0" y="1537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27320" y="646200"/>
              <a:ext cx="316080" cy="1106280"/>
            </a:xfrm>
            <a:custGeom>
              <a:avLst/>
              <a:gdLst/>
              <a:ahLst/>
              <a:rect l="l" t="t" r="r" b="b"/>
              <a:pathLst>
                <a:path w="877" h="3074">
                  <a:moveTo>
                    <a:pt x="0" y="2034"/>
                  </a:moveTo>
                  <a:lnTo>
                    <a:pt x="283" y="1979"/>
                  </a:lnTo>
                  <a:lnTo>
                    <a:pt x="288" y="2077"/>
                  </a:lnTo>
                  <a:lnTo>
                    <a:pt x="297" y="2170"/>
                  </a:lnTo>
                  <a:lnTo>
                    <a:pt x="306" y="2243"/>
                  </a:lnTo>
                  <a:lnTo>
                    <a:pt x="322" y="2305"/>
                  </a:lnTo>
                  <a:lnTo>
                    <a:pt x="345" y="2385"/>
                  </a:lnTo>
                  <a:lnTo>
                    <a:pt x="376" y="2440"/>
                  </a:lnTo>
                  <a:lnTo>
                    <a:pt x="412" y="2471"/>
                  </a:lnTo>
                  <a:lnTo>
                    <a:pt x="454" y="2489"/>
                  </a:lnTo>
                  <a:lnTo>
                    <a:pt x="482" y="2477"/>
                  </a:lnTo>
                  <a:lnTo>
                    <a:pt x="508" y="2465"/>
                  </a:lnTo>
                  <a:lnTo>
                    <a:pt x="531" y="2434"/>
                  </a:lnTo>
                  <a:lnTo>
                    <a:pt x="552" y="2391"/>
                  </a:lnTo>
                  <a:lnTo>
                    <a:pt x="566" y="2342"/>
                  </a:lnTo>
                  <a:lnTo>
                    <a:pt x="577" y="2293"/>
                  </a:lnTo>
                  <a:lnTo>
                    <a:pt x="584" y="2237"/>
                  </a:lnTo>
                  <a:lnTo>
                    <a:pt x="587" y="2182"/>
                  </a:lnTo>
                  <a:lnTo>
                    <a:pt x="584" y="2127"/>
                  </a:lnTo>
                  <a:lnTo>
                    <a:pt x="577" y="2071"/>
                  </a:lnTo>
                  <a:lnTo>
                    <a:pt x="567" y="2022"/>
                  </a:lnTo>
                  <a:lnTo>
                    <a:pt x="553" y="1979"/>
                  </a:lnTo>
                  <a:lnTo>
                    <a:pt x="531" y="1930"/>
                  </a:lnTo>
                  <a:lnTo>
                    <a:pt x="497" y="1881"/>
                  </a:lnTo>
                  <a:lnTo>
                    <a:pt x="455" y="1844"/>
                  </a:lnTo>
                  <a:lnTo>
                    <a:pt x="401" y="1807"/>
                  </a:lnTo>
                  <a:lnTo>
                    <a:pt x="308" y="1727"/>
                  </a:lnTo>
                  <a:lnTo>
                    <a:pt x="232" y="1641"/>
                  </a:lnTo>
                  <a:lnTo>
                    <a:pt x="168" y="1543"/>
                  </a:lnTo>
                  <a:lnTo>
                    <a:pt x="121" y="1445"/>
                  </a:lnTo>
                  <a:lnTo>
                    <a:pt x="83" y="1322"/>
                  </a:lnTo>
                  <a:lnTo>
                    <a:pt x="57" y="1180"/>
                  </a:lnTo>
                  <a:lnTo>
                    <a:pt x="41" y="1027"/>
                  </a:lnTo>
                  <a:lnTo>
                    <a:pt x="36" y="867"/>
                  </a:lnTo>
                  <a:lnTo>
                    <a:pt x="38" y="756"/>
                  </a:lnTo>
                  <a:lnTo>
                    <a:pt x="45" y="640"/>
                  </a:lnTo>
                  <a:lnTo>
                    <a:pt x="61" y="541"/>
                  </a:lnTo>
                  <a:lnTo>
                    <a:pt x="79" y="437"/>
                  </a:lnTo>
                  <a:lnTo>
                    <a:pt x="103" y="338"/>
                  </a:lnTo>
                  <a:lnTo>
                    <a:pt x="132" y="246"/>
                  </a:lnTo>
                  <a:lnTo>
                    <a:pt x="168" y="172"/>
                  </a:lnTo>
                  <a:lnTo>
                    <a:pt x="210" y="111"/>
                  </a:lnTo>
                  <a:lnTo>
                    <a:pt x="256" y="62"/>
                  </a:lnTo>
                  <a:lnTo>
                    <a:pt x="311" y="25"/>
                  </a:lnTo>
                  <a:lnTo>
                    <a:pt x="375" y="0"/>
                  </a:lnTo>
                  <a:lnTo>
                    <a:pt x="446" y="0"/>
                  </a:lnTo>
                  <a:lnTo>
                    <a:pt x="533" y="7"/>
                  </a:lnTo>
                  <a:lnTo>
                    <a:pt x="609" y="50"/>
                  </a:lnTo>
                  <a:lnTo>
                    <a:pt x="673" y="117"/>
                  </a:lnTo>
                  <a:lnTo>
                    <a:pt x="729" y="209"/>
                  </a:lnTo>
                  <a:lnTo>
                    <a:pt x="771" y="326"/>
                  </a:lnTo>
                  <a:lnTo>
                    <a:pt x="805" y="486"/>
                  </a:lnTo>
                  <a:lnTo>
                    <a:pt x="828" y="664"/>
                  </a:lnTo>
                  <a:lnTo>
                    <a:pt x="845" y="885"/>
                  </a:lnTo>
                  <a:lnTo>
                    <a:pt x="563" y="934"/>
                  </a:lnTo>
                  <a:lnTo>
                    <a:pt x="555" y="842"/>
                  </a:lnTo>
                  <a:lnTo>
                    <a:pt x="545" y="756"/>
                  </a:lnTo>
                  <a:lnTo>
                    <a:pt x="533" y="695"/>
                  </a:lnTo>
                  <a:lnTo>
                    <a:pt x="517" y="640"/>
                  </a:lnTo>
                  <a:lnTo>
                    <a:pt x="496" y="603"/>
                  </a:lnTo>
                  <a:lnTo>
                    <a:pt x="474" y="572"/>
                  </a:lnTo>
                  <a:lnTo>
                    <a:pt x="446" y="560"/>
                  </a:lnTo>
                  <a:lnTo>
                    <a:pt x="417" y="553"/>
                  </a:lnTo>
                  <a:lnTo>
                    <a:pt x="391" y="553"/>
                  </a:lnTo>
                  <a:lnTo>
                    <a:pt x="370" y="566"/>
                  </a:lnTo>
                  <a:lnTo>
                    <a:pt x="353" y="590"/>
                  </a:lnTo>
                  <a:lnTo>
                    <a:pt x="339" y="621"/>
                  </a:lnTo>
                  <a:lnTo>
                    <a:pt x="326" y="658"/>
                  </a:lnTo>
                  <a:lnTo>
                    <a:pt x="318" y="695"/>
                  </a:lnTo>
                  <a:lnTo>
                    <a:pt x="313" y="732"/>
                  </a:lnTo>
                  <a:lnTo>
                    <a:pt x="311" y="781"/>
                  </a:lnTo>
                  <a:lnTo>
                    <a:pt x="311" y="818"/>
                  </a:lnTo>
                  <a:lnTo>
                    <a:pt x="316" y="855"/>
                  </a:lnTo>
                  <a:lnTo>
                    <a:pt x="325" y="879"/>
                  </a:lnTo>
                  <a:lnTo>
                    <a:pt x="334" y="910"/>
                  </a:lnTo>
                  <a:lnTo>
                    <a:pt x="348" y="934"/>
                  </a:lnTo>
                  <a:lnTo>
                    <a:pt x="369" y="965"/>
                  </a:lnTo>
                  <a:lnTo>
                    <a:pt x="398" y="996"/>
                  </a:lnTo>
                  <a:lnTo>
                    <a:pt x="434" y="1027"/>
                  </a:lnTo>
                  <a:lnTo>
                    <a:pt x="525" y="1082"/>
                  </a:lnTo>
                  <a:lnTo>
                    <a:pt x="601" y="1150"/>
                  </a:lnTo>
                  <a:lnTo>
                    <a:pt x="665" y="1217"/>
                  </a:lnTo>
                  <a:lnTo>
                    <a:pt x="716" y="1285"/>
                  </a:lnTo>
                  <a:lnTo>
                    <a:pt x="754" y="1352"/>
                  </a:lnTo>
                  <a:lnTo>
                    <a:pt x="788" y="1432"/>
                  </a:lnTo>
                  <a:lnTo>
                    <a:pt x="816" y="1512"/>
                  </a:lnTo>
                  <a:lnTo>
                    <a:pt x="838" y="1610"/>
                  </a:lnTo>
                  <a:lnTo>
                    <a:pt x="854" y="1709"/>
                  </a:lnTo>
                  <a:lnTo>
                    <a:pt x="867" y="1819"/>
                  </a:lnTo>
                  <a:lnTo>
                    <a:pt x="873" y="1930"/>
                  </a:lnTo>
                  <a:lnTo>
                    <a:pt x="876" y="2053"/>
                  </a:lnTo>
                  <a:lnTo>
                    <a:pt x="872" y="2194"/>
                  </a:lnTo>
                  <a:lnTo>
                    <a:pt x="862" y="2323"/>
                  </a:lnTo>
                  <a:lnTo>
                    <a:pt x="847" y="2452"/>
                  </a:lnTo>
                  <a:lnTo>
                    <a:pt x="825" y="2581"/>
                  </a:lnTo>
                  <a:lnTo>
                    <a:pt x="795" y="2692"/>
                  </a:lnTo>
                  <a:lnTo>
                    <a:pt x="761" y="2790"/>
                  </a:lnTo>
                  <a:lnTo>
                    <a:pt x="724" y="2870"/>
                  </a:lnTo>
                  <a:lnTo>
                    <a:pt x="681" y="2944"/>
                  </a:lnTo>
                  <a:lnTo>
                    <a:pt x="631" y="2993"/>
                  </a:lnTo>
                  <a:lnTo>
                    <a:pt x="575" y="3030"/>
                  </a:lnTo>
                  <a:lnTo>
                    <a:pt x="516" y="3055"/>
                  </a:lnTo>
                  <a:lnTo>
                    <a:pt x="449" y="3073"/>
                  </a:lnTo>
                  <a:lnTo>
                    <a:pt x="334" y="3048"/>
                  </a:lnTo>
                  <a:lnTo>
                    <a:pt x="240" y="2993"/>
                  </a:lnTo>
                  <a:lnTo>
                    <a:pt x="163" y="2907"/>
                  </a:lnTo>
                  <a:lnTo>
                    <a:pt x="108" y="2778"/>
                  </a:lnTo>
                  <a:lnTo>
                    <a:pt x="65" y="2618"/>
                  </a:lnTo>
                  <a:lnTo>
                    <a:pt x="31" y="2440"/>
                  </a:lnTo>
                  <a:lnTo>
                    <a:pt x="11" y="2250"/>
                  </a:lnTo>
                  <a:lnTo>
                    <a:pt x="0" y="2034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648320" y="914400"/>
            <a:ext cx="36576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O Verão de S.Marti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É um  dia e um bocad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752480"/>
            <a:ext cx="3276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Pelo S. Martinho   há sol  castanhas e vinh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209680"/>
            <a:ext cx="41148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cc33"/>
                </a:solidFill>
                <a:latin typeface="Times New Roman"/>
              </a:rPr>
              <a:t>Pelo  S.Martinho vai à ade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cc33"/>
                </a:solidFill>
                <a:latin typeface="Times New Roman"/>
              </a:rPr>
              <a:t>e prova o v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352680"/>
            <a:ext cx="3505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ff"/>
                </a:solidFill>
                <a:latin typeface="Times New Roman"/>
              </a:rPr>
              <a:t>Ó meu S. Martinho, que rico regacinho com sol, castanhas e v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3276720"/>
            <a:ext cx="4876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6600"/>
                </a:solidFill>
                <a:latin typeface="Times New Roman"/>
              </a:rPr>
              <a:t>Arre burrinho para o S. Martinho carregadinho de castanhas e vinho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4343400"/>
            <a:ext cx="4343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No dia de S. Martinho pinta a cara do teu viz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334120"/>
            <a:ext cx="3124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No dia de S. Martinho come-se a castanha e bebe-se o v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3504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Pelo S.Martinho abre o tonelzinho e convida o teu vizinh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533520"/>
            <a:ext cx="5487840" cy="1927080"/>
            <a:chOff x="914400" y="533520"/>
            <a:chExt cx="5487840" cy="1927080"/>
          </a:xfrm>
        </p:grpSpPr>
        <p:sp>
          <p:nvSpPr>
            <p:cNvPr id="139" name=""/>
            <p:cNvSpPr/>
            <p:nvPr/>
          </p:nvSpPr>
          <p:spPr>
            <a:xfrm>
              <a:off x="914400" y="533520"/>
              <a:ext cx="1614600" cy="1927080"/>
            </a:xfrm>
            <a:custGeom>
              <a:avLst/>
              <a:gdLst/>
              <a:ahLst/>
              <a:rect l="l" t="t" r="r" b="b"/>
              <a:pathLst>
                <a:path w="4484" h="5354">
                  <a:moveTo>
                    <a:pt x="0" y="0"/>
                  </a:moveTo>
                  <a:lnTo>
                    <a:pt x="4483" y="0"/>
                  </a:lnTo>
                  <a:lnTo>
                    <a:pt x="4483" y="1150"/>
                  </a:lnTo>
                  <a:lnTo>
                    <a:pt x="1820" y="1150"/>
                  </a:lnTo>
                  <a:lnTo>
                    <a:pt x="1820" y="2090"/>
                  </a:lnTo>
                  <a:lnTo>
                    <a:pt x="4096" y="2090"/>
                  </a:lnTo>
                  <a:lnTo>
                    <a:pt x="4096" y="3163"/>
                  </a:lnTo>
                  <a:lnTo>
                    <a:pt x="1820" y="3163"/>
                  </a:lnTo>
                  <a:lnTo>
                    <a:pt x="1820" y="5353"/>
                  </a:lnTo>
                  <a:lnTo>
                    <a:pt x="0" y="535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05200" y="533520"/>
              <a:ext cx="655560" cy="1927080"/>
            </a:xfrm>
            <a:custGeom>
              <a:avLst/>
              <a:gdLst/>
              <a:ahLst/>
              <a:rect l="l" t="t" r="r" b="b"/>
              <a:pathLst>
                <a:path w="1820" h="5354">
                  <a:moveTo>
                    <a:pt x="0" y="0"/>
                  </a:moveTo>
                  <a:lnTo>
                    <a:pt x="1819" y="0"/>
                  </a:lnTo>
                  <a:lnTo>
                    <a:pt x="1819" y="5353"/>
                  </a:lnTo>
                  <a:lnTo>
                    <a:pt x="0" y="535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24440" y="533520"/>
              <a:ext cx="2377800" cy="1927080"/>
            </a:xfrm>
            <a:custGeom>
              <a:avLst/>
              <a:gdLst/>
              <a:ahLst/>
              <a:rect l="l" t="t" r="r" b="b"/>
              <a:pathLst>
                <a:path w="6604" h="5354">
                  <a:moveTo>
                    <a:pt x="0" y="0"/>
                  </a:moveTo>
                  <a:lnTo>
                    <a:pt x="2391" y="0"/>
                  </a:lnTo>
                  <a:lnTo>
                    <a:pt x="3301" y="3263"/>
                  </a:lnTo>
                  <a:lnTo>
                    <a:pt x="4221" y="0"/>
                  </a:lnTo>
                  <a:lnTo>
                    <a:pt x="6603" y="0"/>
                  </a:lnTo>
                  <a:lnTo>
                    <a:pt x="6603" y="5353"/>
                  </a:lnTo>
                  <a:lnTo>
                    <a:pt x="5122" y="5353"/>
                  </a:lnTo>
                  <a:lnTo>
                    <a:pt x="5122" y="1272"/>
                  </a:lnTo>
                  <a:lnTo>
                    <a:pt x="3969" y="5353"/>
                  </a:lnTo>
                  <a:lnTo>
                    <a:pt x="2633" y="5353"/>
                  </a:lnTo>
                  <a:lnTo>
                    <a:pt x="1481" y="1272"/>
                  </a:lnTo>
                  <a:lnTo>
                    <a:pt x="1481" y="5353"/>
                  </a:lnTo>
                  <a:lnTo>
                    <a:pt x="0" y="535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80880" y="2438280"/>
            <a:ext cx="8458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stória elaborada pelos alunos da escola EB1 de LAMEIRAS com a ajuda da profess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29000"/>
            <a:ext cx="7848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ANIE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MICA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IN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ROB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36600"/>
                </a:solidFill>
                <a:latin typeface="Times New Roman"/>
              </a:rPr>
              <a:t>EDUA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CATARINA</a:t>
            </a: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9900cc"/>
                </a:solidFill>
                <a:latin typeface="Times New Roman"/>
              </a:rPr>
              <a:t>ANA ISABEL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38080" y="1752480"/>
            <a:ext cx="7821720" cy="2514600"/>
            <a:chOff x="838080" y="1752480"/>
            <a:chExt cx="7821720" cy="2514600"/>
          </a:xfrm>
        </p:grpSpPr>
        <p:sp>
          <p:nvSpPr>
            <p:cNvPr id="50" name=""/>
            <p:cNvSpPr/>
            <p:nvPr/>
          </p:nvSpPr>
          <p:spPr>
            <a:xfrm>
              <a:off x="838080" y="1792440"/>
              <a:ext cx="387360" cy="2433600"/>
            </a:xfrm>
            <a:custGeom>
              <a:avLst/>
              <a:gdLst/>
              <a:ahLst/>
              <a:rect l="l" t="t" r="r" b="b"/>
              <a:pathLst>
                <a:path w="1076" h="6762">
                  <a:moveTo>
                    <a:pt x="0" y="0"/>
                  </a:moveTo>
                  <a:lnTo>
                    <a:pt x="418" y="0"/>
                  </a:lnTo>
                  <a:lnTo>
                    <a:pt x="418" y="5099"/>
                  </a:lnTo>
                  <a:lnTo>
                    <a:pt x="1075" y="5099"/>
                  </a:lnTo>
                  <a:lnTo>
                    <a:pt x="1075" y="6761"/>
                  </a:lnTo>
                  <a:lnTo>
                    <a:pt x="0" y="67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68280" y="2421000"/>
              <a:ext cx="411120" cy="1846080"/>
            </a:xfrm>
            <a:custGeom>
              <a:avLst/>
              <a:gdLst/>
              <a:ahLst/>
              <a:rect l="l" t="t" r="r" b="b"/>
              <a:pathLst>
                <a:path w="1141" h="5128">
                  <a:moveTo>
                    <a:pt x="757" y="2123"/>
                  </a:moveTo>
                  <a:lnTo>
                    <a:pt x="749" y="1872"/>
                  </a:lnTo>
                  <a:lnTo>
                    <a:pt x="737" y="1662"/>
                  </a:lnTo>
                  <a:lnTo>
                    <a:pt x="720" y="1495"/>
                  </a:lnTo>
                  <a:lnTo>
                    <a:pt x="699" y="1355"/>
                  </a:lnTo>
                  <a:lnTo>
                    <a:pt x="672" y="1243"/>
                  </a:lnTo>
                  <a:lnTo>
                    <a:pt x="641" y="1173"/>
                  </a:lnTo>
                  <a:lnTo>
                    <a:pt x="608" y="1132"/>
                  </a:lnTo>
                  <a:lnTo>
                    <a:pt x="571" y="1118"/>
                  </a:lnTo>
                  <a:lnTo>
                    <a:pt x="527" y="1132"/>
                  </a:lnTo>
                  <a:lnTo>
                    <a:pt x="489" y="1201"/>
                  </a:lnTo>
                  <a:lnTo>
                    <a:pt x="454" y="1313"/>
                  </a:lnTo>
                  <a:lnTo>
                    <a:pt x="428" y="1467"/>
                  </a:lnTo>
                  <a:lnTo>
                    <a:pt x="412" y="1593"/>
                  </a:lnTo>
                  <a:lnTo>
                    <a:pt x="399" y="1732"/>
                  </a:lnTo>
                  <a:lnTo>
                    <a:pt x="388" y="1914"/>
                  </a:lnTo>
                  <a:lnTo>
                    <a:pt x="383" y="2123"/>
                  </a:lnTo>
                  <a:lnTo>
                    <a:pt x="757" y="2123"/>
                  </a:lnTo>
                  <a:close/>
                  <a:moveTo>
                    <a:pt x="1140" y="3032"/>
                  </a:moveTo>
                  <a:lnTo>
                    <a:pt x="383" y="3032"/>
                  </a:lnTo>
                  <a:lnTo>
                    <a:pt x="390" y="3241"/>
                  </a:lnTo>
                  <a:lnTo>
                    <a:pt x="401" y="3423"/>
                  </a:lnTo>
                  <a:lnTo>
                    <a:pt x="414" y="3576"/>
                  </a:lnTo>
                  <a:lnTo>
                    <a:pt x="432" y="3702"/>
                  </a:lnTo>
                  <a:lnTo>
                    <a:pt x="461" y="3842"/>
                  </a:lnTo>
                  <a:lnTo>
                    <a:pt x="495" y="3940"/>
                  </a:lnTo>
                  <a:lnTo>
                    <a:pt x="533" y="4009"/>
                  </a:lnTo>
                  <a:lnTo>
                    <a:pt x="575" y="4023"/>
                  </a:lnTo>
                  <a:lnTo>
                    <a:pt x="603" y="4023"/>
                  </a:lnTo>
                  <a:lnTo>
                    <a:pt x="630" y="3995"/>
                  </a:lnTo>
                  <a:lnTo>
                    <a:pt x="654" y="3954"/>
                  </a:lnTo>
                  <a:lnTo>
                    <a:pt x="681" y="3898"/>
                  </a:lnTo>
                  <a:lnTo>
                    <a:pt x="694" y="3842"/>
                  </a:lnTo>
                  <a:lnTo>
                    <a:pt x="712" y="3772"/>
                  </a:lnTo>
                  <a:lnTo>
                    <a:pt x="729" y="3688"/>
                  </a:lnTo>
                  <a:lnTo>
                    <a:pt x="749" y="3576"/>
                  </a:lnTo>
                  <a:lnTo>
                    <a:pt x="1120" y="3744"/>
                  </a:lnTo>
                  <a:lnTo>
                    <a:pt x="1075" y="4079"/>
                  </a:lnTo>
                  <a:lnTo>
                    <a:pt x="1026" y="4373"/>
                  </a:lnTo>
                  <a:lnTo>
                    <a:pt x="973" y="4624"/>
                  </a:lnTo>
                  <a:lnTo>
                    <a:pt x="914" y="4806"/>
                  </a:lnTo>
                  <a:lnTo>
                    <a:pt x="847" y="4945"/>
                  </a:lnTo>
                  <a:lnTo>
                    <a:pt x="766" y="5043"/>
                  </a:lnTo>
                  <a:lnTo>
                    <a:pt x="674" y="5099"/>
                  </a:lnTo>
                  <a:lnTo>
                    <a:pt x="569" y="5127"/>
                  </a:lnTo>
                  <a:lnTo>
                    <a:pt x="475" y="5099"/>
                  </a:lnTo>
                  <a:lnTo>
                    <a:pt x="392" y="5057"/>
                  </a:lnTo>
                  <a:lnTo>
                    <a:pt x="320" y="4959"/>
                  </a:lnTo>
                  <a:lnTo>
                    <a:pt x="260" y="4848"/>
                  </a:lnTo>
                  <a:lnTo>
                    <a:pt x="206" y="4694"/>
                  </a:lnTo>
                  <a:lnTo>
                    <a:pt x="157" y="4498"/>
                  </a:lnTo>
                  <a:lnTo>
                    <a:pt x="112" y="4261"/>
                  </a:lnTo>
                  <a:lnTo>
                    <a:pt x="74" y="3981"/>
                  </a:lnTo>
                  <a:lnTo>
                    <a:pt x="40" y="3674"/>
                  </a:lnTo>
                  <a:lnTo>
                    <a:pt x="18" y="3339"/>
                  </a:lnTo>
                  <a:lnTo>
                    <a:pt x="5" y="2962"/>
                  </a:lnTo>
                  <a:lnTo>
                    <a:pt x="0" y="2570"/>
                  </a:lnTo>
                  <a:lnTo>
                    <a:pt x="9" y="2012"/>
                  </a:lnTo>
                  <a:lnTo>
                    <a:pt x="36" y="1523"/>
                  </a:lnTo>
                  <a:lnTo>
                    <a:pt x="82" y="1090"/>
                  </a:lnTo>
                  <a:lnTo>
                    <a:pt x="148" y="712"/>
                  </a:lnTo>
                  <a:lnTo>
                    <a:pt x="229" y="391"/>
                  </a:lnTo>
                  <a:lnTo>
                    <a:pt x="322" y="168"/>
                  </a:lnTo>
                  <a:lnTo>
                    <a:pt x="432" y="42"/>
                  </a:lnTo>
                  <a:lnTo>
                    <a:pt x="555" y="0"/>
                  </a:lnTo>
                  <a:lnTo>
                    <a:pt x="654" y="14"/>
                  </a:lnTo>
                  <a:lnTo>
                    <a:pt x="744" y="70"/>
                  </a:lnTo>
                  <a:lnTo>
                    <a:pt x="822" y="168"/>
                  </a:lnTo>
                  <a:lnTo>
                    <a:pt x="892" y="321"/>
                  </a:lnTo>
                  <a:lnTo>
                    <a:pt x="947" y="489"/>
                  </a:lnTo>
                  <a:lnTo>
                    <a:pt x="997" y="712"/>
                  </a:lnTo>
                  <a:lnTo>
                    <a:pt x="1042" y="950"/>
                  </a:lnTo>
                  <a:lnTo>
                    <a:pt x="1077" y="1243"/>
                  </a:lnTo>
                  <a:lnTo>
                    <a:pt x="1105" y="1565"/>
                  </a:lnTo>
                  <a:lnTo>
                    <a:pt x="1125" y="1942"/>
                  </a:lnTo>
                  <a:lnTo>
                    <a:pt x="1136" y="2347"/>
                  </a:lnTo>
                  <a:lnTo>
                    <a:pt x="1140" y="2822"/>
                  </a:lnTo>
                  <a:lnTo>
                    <a:pt x="1140" y="3032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39880" y="2421000"/>
              <a:ext cx="374760" cy="1805040"/>
            </a:xfrm>
            <a:custGeom>
              <a:avLst/>
              <a:gdLst/>
              <a:ahLst/>
              <a:rect l="l" t="t" r="r" b="b"/>
              <a:pathLst>
                <a:path w="1041" h="5016">
                  <a:moveTo>
                    <a:pt x="0" y="112"/>
                  </a:moveTo>
                  <a:lnTo>
                    <a:pt x="349" y="112"/>
                  </a:lnTo>
                  <a:lnTo>
                    <a:pt x="349" y="922"/>
                  </a:lnTo>
                  <a:lnTo>
                    <a:pt x="389" y="685"/>
                  </a:lnTo>
                  <a:lnTo>
                    <a:pt x="430" y="503"/>
                  </a:lnTo>
                  <a:lnTo>
                    <a:pt x="470" y="335"/>
                  </a:lnTo>
                  <a:lnTo>
                    <a:pt x="510" y="224"/>
                  </a:lnTo>
                  <a:lnTo>
                    <a:pt x="551" y="112"/>
                  </a:lnTo>
                  <a:lnTo>
                    <a:pt x="598" y="56"/>
                  </a:lnTo>
                  <a:lnTo>
                    <a:pt x="650" y="14"/>
                  </a:lnTo>
                  <a:lnTo>
                    <a:pt x="706" y="0"/>
                  </a:lnTo>
                  <a:lnTo>
                    <a:pt x="780" y="28"/>
                  </a:lnTo>
                  <a:lnTo>
                    <a:pt x="844" y="112"/>
                  </a:lnTo>
                  <a:lnTo>
                    <a:pt x="903" y="265"/>
                  </a:lnTo>
                  <a:lnTo>
                    <a:pt x="952" y="461"/>
                  </a:lnTo>
                  <a:lnTo>
                    <a:pt x="990" y="726"/>
                  </a:lnTo>
                  <a:lnTo>
                    <a:pt x="1017" y="1062"/>
                  </a:lnTo>
                  <a:lnTo>
                    <a:pt x="1033" y="1453"/>
                  </a:lnTo>
                  <a:lnTo>
                    <a:pt x="1040" y="1900"/>
                  </a:lnTo>
                  <a:lnTo>
                    <a:pt x="1040" y="5015"/>
                  </a:lnTo>
                  <a:lnTo>
                    <a:pt x="661" y="5015"/>
                  </a:lnTo>
                  <a:lnTo>
                    <a:pt x="661" y="2333"/>
                  </a:lnTo>
                  <a:lnTo>
                    <a:pt x="659" y="2109"/>
                  </a:lnTo>
                  <a:lnTo>
                    <a:pt x="652" y="1928"/>
                  </a:lnTo>
                  <a:lnTo>
                    <a:pt x="641" y="1774"/>
                  </a:lnTo>
                  <a:lnTo>
                    <a:pt x="627" y="1676"/>
                  </a:lnTo>
                  <a:lnTo>
                    <a:pt x="607" y="1579"/>
                  </a:lnTo>
                  <a:lnTo>
                    <a:pt x="585" y="1523"/>
                  </a:lnTo>
                  <a:lnTo>
                    <a:pt x="558" y="1495"/>
                  </a:lnTo>
                  <a:lnTo>
                    <a:pt x="531" y="1481"/>
                  </a:lnTo>
                  <a:lnTo>
                    <a:pt x="497" y="1495"/>
                  </a:lnTo>
                  <a:lnTo>
                    <a:pt x="468" y="1537"/>
                  </a:lnTo>
                  <a:lnTo>
                    <a:pt x="441" y="1621"/>
                  </a:lnTo>
                  <a:lnTo>
                    <a:pt x="419" y="1732"/>
                  </a:lnTo>
                  <a:lnTo>
                    <a:pt x="399" y="1886"/>
                  </a:lnTo>
                  <a:lnTo>
                    <a:pt x="385" y="2096"/>
                  </a:lnTo>
                  <a:lnTo>
                    <a:pt x="378" y="2347"/>
                  </a:lnTo>
                  <a:lnTo>
                    <a:pt x="376" y="2668"/>
                  </a:lnTo>
                  <a:lnTo>
                    <a:pt x="376" y="5015"/>
                  </a:lnTo>
                  <a:lnTo>
                    <a:pt x="0" y="5015"/>
                  </a:lnTo>
                  <a:lnTo>
                    <a:pt x="0" y="112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79800" y="1792440"/>
              <a:ext cx="390240" cy="2474640"/>
            </a:xfrm>
            <a:custGeom>
              <a:avLst/>
              <a:gdLst/>
              <a:ahLst/>
              <a:rect l="l" t="t" r="r" b="b"/>
              <a:pathLst>
                <a:path w="1084" h="6874">
                  <a:moveTo>
                    <a:pt x="704" y="4316"/>
                  </a:moveTo>
                  <a:lnTo>
                    <a:pt x="700" y="4037"/>
                  </a:lnTo>
                  <a:lnTo>
                    <a:pt x="691" y="3800"/>
                  </a:lnTo>
                  <a:lnTo>
                    <a:pt x="675" y="3590"/>
                  </a:lnTo>
                  <a:lnTo>
                    <a:pt x="654" y="3436"/>
                  </a:lnTo>
                  <a:lnTo>
                    <a:pt x="628" y="3311"/>
                  </a:lnTo>
                  <a:lnTo>
                    <a:pt x="599" y="3227"/>
                  </a:lnTo>
                  <a:lnTo>
                    <a:pt x="565" y="3171"/>
                  </a:lnTo>
                  <a:lnTo>
                    <a:pt x="531" y="3157"/>
                  </a:lnTo>
                  <a:lnTo>
                    <a:pt x="500" y="3171"/>
                  </a:lnTo>
                  <a:lnTo>
                    <a:pt x="471" y="3227"/>
                  </a:lnTo>
                  <a:lnTo>
                    <a:pt x="444" y="3311"/>
                  </a:lnTo>
                  <a:lnTo>
                    <a:pt x="422" y="3422"/>
                  </a:lnTo>
                  <a:lnTo>
                    <a:pt x="401" y="3590"/>
                  </a:lnTo>
                  <a:lnTo>
                    <a:pt x="388" y="3800"/>
                  </a:lnTo>
                  <a:lnTo>
                    <a:pt x="379" y="4037"/>
                  </a:lnTo>
                  <a:lnTo>
                    <a:pt x="377" y="4344"/>
                  </a:lnTo>
                  <a:lnTo>
                    <a:pt x="379" y="4624"/>
                  </a:lnTo>
                  <a:lnTo>
                    <a:pt x="388" y="4861"/>
                  </a:lnTo>
                  <a:lnTo>
                    <a:pt x="401" y="5057"/>
                  </a:lnTo>
                  <a:lnTo>
                    <a:pt x="424" y="5225"/>
                  </a:lnTo>
                  <a:lnTo>
                    <a:pt x="447" y="5350"/>
                  </a:lnTo>
                  <a:lnTo>
                    <a:pt x="473" y="5434"/>
                  </a:lnTo>
                  <a:lnTo>
                    <a:pt x="502" y="5490"/>
                  </a:lnTo>
                  <a:lnTo>
                    <a:pt x="537" y="5504"/>
                  </a:lnTo>
                  <a:lnTo>
                    <a:pt x="570" y="5490"/>
                  </a:lnTo>
                  <a:lnTo>
                    <a:pt x="601" y="5434"/>
                  </a:lnTo>
                  <a:lnTo>
                    <a:pt x="630" y="5350"/>
                  </a:lnTo>
                  <a:lnTo>
                    <a:pt x="658" y="5225"/>
                  </a:lnTo>
                  <a:lnTo>
                    <a:pt x="678" y="5057"/>
                  </a:lnTo>
                  <a:lnTo>
                    <a:pt x="691" y="4847"/>
                  </a:lnTo>
                  <a:lnTo>
                    <a:pt x="700" y="4596"/>
                  </a:lnTo>
                  <a:lnTo>
                    <a:pt x="704" y="4316"/>
                  </a:lnTo>
                  <a:close/>
                  <a:moveTo>
                    <a:pt x="1083" y="0"/>
                  </a:moveTo>
                  <a:lnTo>
                    <a:pt x="1083" y="6761"/>
                  </a:lnTo>
                  <a:lnTo>
                    <a:pt x="729" y="6761"/>
                  </a:lnTo>
                  <a:lnTo>
                    <a:pt x="729" y="6049"/>
                  </a:lnTo>
                  <a:lnTo>
                    <a:pt x="691" y="6258"/>
                  </a:lnTo>
                  <a:lnTo>
                    <a:pt x="658" y="6426"/>
                  </a:lnTo>
                  <a:lnTo>
                    <a:pt x="623" y="6566"/>
                  </a:lnTo>
                  <a:lnTo>
                    <a:pt x="594" y="6663"/>
                  </a:lnTo>
                  <a:lnTo>
                    <a:pt x="552" y="6747"/>
                  </a:lnTo>
                  <a:lnTo>
                    <a:pt x="507" y="6817"/>
                  </a:lnTo>
                  <a:lnTo>
                    <a:pt x="460" y="6859"/>
                  </a:lnTo>
                  <a:lnTo>
                    <a:pt x="413" y="6873"/>
                  </a:lnTo>
                  <a:lnTo>
                    <a:pt x="319" y="6817"/>
                  </a:lnTo>
                  <a:lnTo>
                    <a:pt x="236" y="6677"/>
                  </a:lnTo>
                  <a:lnTo>
                    <a:pt x="167" y="6440"/>
                  </a:lnTo>
                  <a:lnTo>
                    <a:pt x="108" y="6119"/>
                  </a:lnTo>
                  <a:lnTo>
                    <a:pt x="61" y="5713"/>
                  </a:lnTo>
                  <a:lnTo>
                    <a:pt x="27" y="5266"/>
                  </a:lnTo>
                  <a:lnTo>
                    <a:pt x="7" y="4791"/>
                  </a:lnTo>
                  <a:lnTo>
                    <a:pt x="0" y="4261"/>
                  </a:lnTo>
                  <a:lnTo>
                    <a:pt x="7" y="3688"/>
                  </a:lnTo>
                  <a:lnTo>
                    <a:pt x="27" y="3185"/>
                  </a:lnTo>
                  <a:lnTo>
                    <a:pt x="66" y="2752"/>
                  </a:lnTo>
                  <a:lnTo>
                    <a:pt x="117" y="2403"/>
                  </a:lnTo>
                  <a:lnTo>
                    <a:pt x="178" y="2109"/>
                  </a:lnTo>
                  <a:lnTo>
                    <a:pt x="249" y="1914"/>
                  </a:lnTo>
                  <a:lnTo>
                    <a:pt x="328" y="1788"/>
                  </a:lnTo>
                  <a:lnTo>
                    <a:pt x="416" y="1746"/>
                  </a:lnTo>
                  <a:lnTo>
                    <a:pt x="458" y="1746"/>
                  </a:lnTo>
                  <a:lnTo>
                    <a:pt x="498" y="1788"/>
                  </a:lnTo>
                  <a:lnTo>
                    <a:pt x="537" y="1830"/>
                  </a:lnTo>
                  <a:lnTo>
                    <a:pt x="574" y="1900"/>
                  </a:lnTo>
                  <a:lnTo>
                    <a:pt x="608" y="1970"/>
                  </a:lnTo>
                  <a:lnTo>
                    <a:pt x="641" y="2081"/>
                  </a:lnTo>
                  <a:lnTo>
                    <a:pt x="671" y="2193"/>
                  </a:lnTo>
                  <a:lnTo>
                    <a:pt x="702" y="2347"/>
                  </a:lnTo>
                  <a:lnTo>
                    <a:pt x="702" y="0"/>
                  </a:lnTo>
                  <a:lnTo>
                    <a:pt x="1083" y="0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35200" y="2421000"/>
              <a:ext cx="409680" cy="1846080"/>
            </a:xfrm>
            <a:custGeom>
              <a:avLst/>
              <a:gdLst/>
              <a:ahLst/>
              <a:rect l="l" t="t" r="r" b="b"/>
              <a:pathLst>
                <a:path w="1136" h="5128">
                  <a:moveTo>
                    <a:pt x="717" y="2696"/>
                  </a:moveTo>
                  <a:lnTo>
                    <a:pt x="677" y="2752"/>
                  </a:lnTo>
                  <a:lnTo>
                    <a:pt x="637" y="2822"/>
                  </a:lnTo>
                  <a:lnTo>
                    <a:pt x="596" y="2878"/>
                  </a:lnTo>
                  <a:lnTo>
                    <a:pt x="556" y="2948"/>
                  </a:lnTo>
                  <a:lnTo>
                    <a:pt x="503" y="3018"/>
                  </a:lnTo>
                  <a:lnTo>
                    <a:pt x="462" y="3087"/>
                  </a:lnTo>
                  <a:lnTo>
                    <a:pt x="431" y="3171"/>
                  </a:lnTo>
                  <a:lnTo>
                    <a:pt x="411" y="3241"/>
                  </a:lnTo>
                  <a:lnTo>
                    <a:pt x="397" y="3311"/>
                  </a:lnTo>
                  <a:lnTo>
                    <a:pt x="386" y="3409"/>
                  </a:lnTo>
                  <a:lnTo>
                    <a:pt x="380" y="3493"/>
                  </a:lnTo>
                  <a:lnTo>
                    <a:pt x="380" y="3590"/>
                  </a:lnTo>
                  <a:lnTo>
                    <a:pt x="380" y="3688"/>
                  </a:lnTo>
                  <a:lnTo>
                    <a:pt x="386" y="3786"/>
                  </a:lnTo>
                  <a:lnTo>
                    <a:pt x="397" y="3870"/>
                  </a:lnTo>
                  <a:lnTo>
                    <a:pt x="411" y="3954"/>
                  </a:lnTo>
                  <a:lnTo>
                    <a:pt x="426" y="4009"/>
                  </a:lnTo>
                  <a:lnTo>
                    <a:pt x="449" y="4051"/>
                  </a:lnTo>
                  <a:lnTo>
                    <a:pt x="471" y="4079"/>
                  </a:lnTo>
                  <a:lnTo>
                    <a:pt x="500" y="4093"/>
                  </a:lnTo>
                  <a:lnTo>
                    <a:pt x="532" y="4079"/>
                  </a:lnTo>
                  <a:lnTo>
                    <a:pt x="561" y="4051"/>
                  </a:lnTo>
                  <a:lnTo>
                    <a:pt x="590" y="3995"/>
                  </a:lnTo>
                  <a:lnTo>
                    <a:pt x="618" y="3940"/>
                  </a:lnTo>
                  <a:lnTo>
                    <a:pt x="644" y="3856"/>
                  </a:lnTo>
                  <a:lnTo>
                    <a:pt x="664" y="3772"/>
                  </a:lnTo>
                  <a:lnTo>
                    <a:pt x="679" y="3674"/>
                  </a:lnTo>
                  <a:lnTo>
                    <a:pt x="695" y="3576"/>
                  </a:lnTo>
                  <a:lnTo>
                    <a:pt x="704" y="3451"/>
                  </a:lnTo>
                  <a:lnTo>
                    <a:pt x="711" y="3311"/>
                  </a:lnTo>
                  <a:lnTo>
                    <a:pt x="715" y="3171"/>
                  </a:lnTo>
                  <a:lnTo>
                    <a:pt x="717" y="3004"/>
                  </a:lnTo>
                  <a:lnTo>
                    <a:pt x="717" y="2696"/>
                  </a:lnTo>
                  <a:close/>
                  <a:moveTo>
                    <a:pt x="391" y="1704"/>
                  </a:moveTo>
                  <a:lnTo>
                    <a:pt x="30" y="1509"/>
                  </a:lnTo>
                  <a:lnTo>
                    <a:pt x="41" y="1285"/>
                  </a:lnTo>
                  <a:lnTo>
                    <a:pt x="54" y="1090"/>
                  </a:lnTo>
                  <a:lnTo>
                    <a:pt x="70" y="922"/>
                  </a:lnTo>
                  <a:lnTo>
                    <a:pt x="88" y="782"/>
                  </a:lnTo>
                  <a:lnTo>
                    <a:pt x="108" y="643"/>
                  </a:lnTo>
                  <a:lnTo>
                    <a:pt x="133" y="517"/>
                  </a:lnTo>
                  <a:lnTo>
                    <a:pt x="164" y="405"/>
                  </a:lnTo>
                  <a:lnTo>
                    <a:pt x="200" y="307"/>
                  </a:lnTo>
                  <a:lnTo>
                    <a:pt x="227" y="224"/>
                  </a:lnTo>
                  <a:lnTo>
                    <a:pt x="261" y="168"/>
                  </a:lnTo>
                  <a:lnTo>
                    <a:pt x="299" y="112"/>
                  </a:lnTo>
                  <a:lnTo>
                    <a:pt x="343" y="84"/>
                  </a:lnTo>
                  <a:lnTo>
                    <a:pt x="389" y="42"/>
                  </a:lnTo>
                  <a:lnTo>
                    <a:pt x="437" y="14"/>
                  </a:lnTo>
                  <a:lnTo>
                    <a:pt x="486" y="0"/>
                  </a:lnTo>
                  <a:lnTo>
                    <a:pt x="538" y="0"/>
                  </a:lnTo>
                  <a:lnTo>
                    <a:pt x="618" y="0"/>
                  </a:lnTo>
                  <a:lnTo>
                    <a:pt x="691" y="28"/>
                  </a:lnTo>
                  <a:lnTo>
                    <a:pt x="756" y="56"/>
                  </a:lnTo>
                  <a:lnTo>
                    <a:pt x="812" y="98"/>
                  </a:lnTo>
                  <a:lnTo>
                    <a:pt x="860" y="154"/>
                  </a:lnTo>
                  <a:lnTo>
                    <a:pt x="906" y="238"/>
                  </a:lnTo>
                  <a:lnTo>
                    <a:pt x="946" y="349"/>
                  </a:lnTo>
                  <a:lnTo>
                    <a:pt x="984" y="503"/>
                  </a:lnTo>
                  <a:lnTo>
                    <a:pt x="1005" y="601"/>
                  </a:lnTo>
                  <a:lnTo>
                    <a:pt x="1025" y="726"/>
                  </a:lnTo>
                  <a:lnTo>
                    <a:pt x="1042" y="894"/>
                  </a:lnTo>
                  <a:lnTo>
                    <a:pt x="1060" y="1076"/>
                  </a:lnTo>
                  <a:lnTo>
                    <a:pt x="1071" y="1271"/>
                  </a:lnTo>
                  <a:lnTo>
                    <a:pt x="1080" y="1453"/>
                  </a:lnTo>
                  <a:lnTo>
                    <a:pt x="1085" y="1635"/>
                  </a:lnTo>
                  <a:lnTo>
                    <a:pt x="1087" y="1816"/>
                  </a:lnTo>
                  <a:lnTo>
                    <a:pt x="1087" y="3981"/>
                  </a:lnTo>
                  <a:lnTo>
                    <a:pt x="1087" y="4135"/>
                  </a:lnTo>
                  <a:lnTo>
                    <a:pt x="1087" y="4289"/>
                  </a:lnTo>
                  <a:lnTo>
                    <a:pt x="1091" y="4415"/>
                  </a:lnTo>
                  <a:lnTo>
                    <a:pt x="1096" y="4526"/>
                  </a:lnTo>
                  <a:lnTo>
                    <a:pt x="1100" y="4624"/>
                  </a:lnTo>
                  <a:lnTo>
                    <a:pt x="1109" y="4736"/>
                  </a:lnTo>
                  <a:lnTo>
                    <a:pt x="1118" y="4876"/>
                  </a:lnTo>
                  <a:lnTo>
                    <a:pt x="1135" y="5015"/>
                  </a:lnTo>
                  <a:lnTo>
                    <a:pt x="780" y="5015"/>
                  </a:lnTo>
                  <a:lnTo>
                    <a:pt x="769" y="4931"/>
                  </a:lnTo>
                  <a:lnTo>
                    <a:pt x="760" y="4848"/>
                  </a:lnTo>
                  <a:lnTo>
                    <a:pt x="754" y="4792"/>
                  </a:lnTo>
                  <a:lnTo>
                    <a:pt x="752" y="4736"/>
                  </a:lnTo>
                  <a:lnTo>
                    <a:pt x="746" y="4666"/>
                  </a:lnTo>
                  <a:lnTo>
                    <a:pt x="744" y="4596"/>
                  </a:lnTo>
                  <a:lnTo>
                    <a:pt x="739" y="4526"/>
                  </a:lnTo>
                  <a:lnTo>
                    <a:pt x="739" y="4429"/>
                  </a:lnTo>
                  <a:lnTo>
                    <a:pt x="699" y="4582"/>
                  </a:lnTo>
                  <a:lnTo>
                    <a:pt x="664" y="4736"/>
                  </a:lnTo>
                  <a:lnTo>
                    <a:pt x="626" y="4848"/>
                  </a:lnTo>
                  <a:lnTo>
                    <a:pt x="592" y="4931"/>
                  </a:lnTo>
                  <a:lnTo>
                    <a:pt x="538" y="5015"/>
                  </a:lnTo>
                  <a:lnTo>
                    <a:pt x="482" y="5071"/>
                  </a:lnTo>
                  <a:lnTo>
                    <a:pt x="422" y="5113"/>
                  </a:lnTo>
                  <a:lnTo>
                    <a:pt x="359" y="5127"/>
                  </a:lnTo>
                  <a:lnTo>
                    <a:pt x="274" y="5099"/>
                  </a:lnTo>
                  <a:lnTo>
                    <a:pt x="202" y="5015"/>
                  </a:lnTo>
                  <a:lnTo>
                    <a:pt x="142" y="4903"/>
                  </a:lnTo>
                  <a:lnTo>
                    <a:pt x="92" y="4722"/>
                  </a:lnTo>
                  <a:lnTo>
                    <a:pt x="52" y="4498"/>
                  </a:lnTo>
                  <a:lnTo>
                    <a:pt x="23" y="4261"/>
                  </a:lnTo>
                  <a:lnTo>
                    <a:pt x="5" y="4009"/>
                  </a:lnTo>
                  <a:lnTo>
                    <a:pt x="0" y="3730"/>
                  </a:lnTo>
                  <a:lnTo>
                    <a:pt x="2" y="3465"/>
                  </a:lnTo>
                  <a:lnTo>
                    <a:pt x="17" y="3213"/>
                  </a:lnTo>
                  <a:lnTo>
                    <a:pt x="37" y="3004"/>
                  </a:lnTo>
                  <a:lnTo>
                    <a:pt x="66" y="2808"/>
                  </a:lnTo>
                  <a:lnTo>
                    <a:pt x="106" y="2626"/>
                  </a:lnTo>
                  <a:lnTo>
                    <a:pt x="160" y="2487"/>
                  </a:lnTo>
                  <a:lnTo>
                    <a:pt x="227" y="2361"/>
                  </a:lnTo>
                  <a:lnTo>
                    <a:pt x="310" y="2277"/>
                  </a:lnTo>
                  <a:lnTo>
                    <a:pt x="406" y="2179"/>
                  </a:lnTo>
                  <a:lnTo>
                    <a:pt x="484" y="2082"/>
                  </a:lnTo>
                  <a:lnTo>
                    <a:pt x="543" y="2012"/>
                  </a:lnTo>
                  <a:lnTo>
                    <a:pt x="585" y="1970"/>
                  </a:lnTo>
                  <a:lnTo>
                    <a:pt x="616" y="1914"/>
                  </a:lnTo>
                  <a:lnTo>
                    <a:pt x="648" y="1872"/>
                  </a:lnTo>
                  <a:lnTo>
                    <a:pt x="682" y="1802"/>
                  </a:lnTo>
                  <a:lnTo>
                    <a:pt x="717" y="1746"/>
                  </a:lnTo>
                  <a:lnTo>
                    <a:pt x="715" y="1579"/>
                  </a:lnTo>
                  <a:lnTo>
                    <a:pt x="708" y="1453"/>
                  </a:lnTo>
                  <a:lnTo>
                    <a:pt x="699" y="1341"/>
                  </a:lnTo>
                  <a:lnTo>
                    <a:pt x="688" y="1257"/>
                  </a:lnTo>
                  <a:lnTo>
                    <a:pt x="671" y="1187"/>
                  </a:lnTo>
                  <a:lnTo>
                    <a:pt x="648" y="1160"/>
                  </a:lnTo>
                  <a:lnTo>
                    <a:pt x="618" y="1118"/>
                  </a:lnTo>
                  <a:lnTo>
                    <a:pt x="587" y="1118"/>
                  </a:lnTo>
                  <a:lnTo>
                    <a:pt x="543" y="1118"/>
                  </a:lnTo>
                  <a:lnTo>
                    <a:pt x="507" y="1160"/>
                  </a:lnTo>
                  <a:lnTo>
                    <a:pt x="473" y="1201"/>
                  </a:lnTo>
                  <a:lnTo>
                    <a:pt x="449" y="1271"/>
                  </a:lnTo>
                  <a:lnTo>
                    <a:pt x="431" y="1341"/>
                  </a:lnTo>
                  <a:lnTo>
                    <a:pt x="415" y="1439"/>
                  </a:lnTo>
                  <a:lnTo>
                    <a:pt x="402" y="1551"/>
                  </a:lnTo>
                  <a:lnTo>
                    <a:pt x="391" y="1704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7760" y="1792440"/>
              <a:ext cx="390600" cy="2474640"/>
            </a:xfrm>
            <a:custGeom>
              <a:avLst/>
              <a:gdLst/>
              <a:ahLst/>
              <a:rect l="l" t="t" r="r" b="b"/>
              <a:pathLst>
                <a:path w="1084" h="6874">
                  <a:moveTo>
                    <a:pt x="704" y="4316"/>
                  </a:moveTo>
                  <a:lnTo>
                    <a:pt x="699" y="4037"/>
                  </a:lnTo>
                  <a:lnTo>
                    <a:pt x="690" y="3800"/>
                  </a:lnTo>
                  <a:lnTo>
                    <a:pt x="674" y="3590"/>
                  </a:lnTo>
                  <a:lnTo>
                    <a:pt x="654" y="3436"/>
                  </a:lnTo>
                  <a:lnTo>
                    <a:pt x="628" y="3311"/>
                  </a:lnTo>
                  <a:lnTo>
                    <a:pt x="599" y="3227"/>
                  </a:lnTo>
                  <a:lnTo>
                    <a:pt x="564" y="3171"/>
                  </a:lnTo>
                  <a:lnTo>
                    <a:pt x="531" y="3157"/>
                  </a:lnTo>
                  <a:lnTo>
                    <a:pt x="500" y="3171"/>
                  </a:lnTo>
                  <a:lnTo>
                    <a:pt x="471" y="3227"/>
                  </a:lnTo>
                  <a:lnTo>
                    <a:pt x="443" y="3311"/>
                  </a:lnTo>
                  <a:lnTo>
                    <a:pt x="421" y="3422"/>
                  </a:lnTo>
                  <a:lnTo>
                    <a:pt x="401" y="3590"/>
                  </a:lnTo>
                  <a:lnTo>
                    <a:pt x="388" y="3800"/>
                  </a:lnTo>
                  <a:lnTo>
                    <a:pt x="379" y="4037"/>
                  </a:lnTo>
                  <a:lnTo>
                    <a:pt x="377" y="4344"/>
                  </a:lnTo>
                  <a:lnTo>
                    <a:pt x="379" y="4624"/>
                  </a:lnTo>
                  <a:lnTo>
                    <a:pt x="388" y="4861"/>
                  </a:lnTo>
                  <a:lnTo>
                    <a:pt x="401" y="5057"/>
                  </a:lnTo>
                  <a:lnTo>
                    <a:pt x="423" y="5225"/>
                  </a:lnTo>
                  <a:lnTo>
                    <a:pt x="446" y="5350"/>
                  </a:lnTo>
                  <a:lnTo>
                    <a:pt x="473" y="5434"/>
                  </a:lnTo>
                  <a:lnTo>
                    <a:pt x="502" y="5490"/>
                  </a:lnTo>
                  <a:lnTo>
                    <a:pt x="535" y="5504"/>
                  </a:lnTo>
                  <a:lnTo>
                    <a:pt x="569" y="5490"/>
                  </a:lnTo>
                  <a:lnTo>
                    <a:pt x="601" y="5434"/>
                  </a:lnTo>
                  <a:lnTo>
                    <a:pt x="630" y="5350"/>
                  </a:lnTo>
                  <a:lnTo>
                    <a:pt x="656" y="5225"/>
                  </a:lnTo>
                  <a:lnTo>
                    <a:pt x="676" y="5057"/>
                  </a:lnTo>
                  <a:lnTo>
                    <a:pt x="690" y="4847"/>
                  </a:lnTo>
                  <a:lnTo>
                    <a:pt x="699" y="4596"/>
                  </a:lnTo>
                  <a:lnTo>
                    <a:pt x="704" y="4316"/>
                  </a:lnTo>
                  <a:close/>
                  <a:moveTo>
                    <a:pt x="1083" y="0"/>
                  </a:moveTo>
                  <a:lnTo>
                    <a:pt x="1083" y="6761"/>
                  </a:lnTo>
                  <a:lnTo>
                    <a:pt x="729" y="6761"/>
                  </a:lnTo>
                  <a:lnTo>
                    <a:pt x="729" y="6049"/>
                  </a:lnTo>
                  <a:lnTo>
                    <a:pt x="690" y="6258"/>
                  </a:lnTo>
                  <a:lnTo>
                    <a:pt x="656" y="6426"/>
                  </a:lnTo>
                  <a:lnTo>
                    <a:pt x="623" y="6566"/>
                  </a:lnTo>
                  <a:lnTo>
                    <a:pt x="594" y="6663"/>
                  </a:lnTo>
                  <a:lnTo>
                    <a:pt x="551" y="6747"/>
                  </a:lnTo>
                  <a:lnTo>
                    <a:pt x="507" y="6817"/>
                  </a:lnTo>
                  <a:lnTo>
                    <a:pt x="460" y="6859"/>
                  </a:lnTo>
                  <a:lnTo>
                    <a:pt x="412" y="6873"/>
                  </a:lnTo>
                  <a:lnTo>
                    <a:pt x="318" y="6817"/>
                  </a:lnTo>
                  <a:lnTo>
                    <a:pt x="236" y="6677"/>
                  </a:lnTo>
                  <a:lnTo>
                    <a:pt x="166" y="6440"/>
                  </a:lnTo>
                  <a:lnTo>
                    <a:pt x="108" y="6119"/>
                  </a:lnTo>
                  <a:lnTo>
                    <a:pt x="60" y="5713"/>
                  </a:lnTo>
                  <a:lnTo>
                    <a:pt x="27" y="5266"/>
                  </a:lnTo>
                  <a:lnTo>
                    <a:pt x="7" y="4791"/>
                  </a:lnTo>
                  <a:lnTo>
                    <a:pt x="0" y="4261"/>
                  </a:lnTo>
                  <a:lnTo>
                    <a:pt x="7" y="3688"/>
                  </a:lnTo>
                  <a:lnTo>
                    <a:pt x="27" y="3185"/>
                  </a:lnTo>
                  <a:lnTo>
                    <a:pt x="65" y="2752"/>
                  </a:lnTo>
                  <a:lnTo>
                    <a:pt x="117" y="2403"/>
                  </a:lnTo>
                  <a:lnTo>
                    <a:pt x="177" y="2109"/>
                  </a:lnTo>
                  <a:lnTo>
                    <a:pt x="249" y="1914"/>
                  </a:lnTo>
                  <a:lnTo>
                    <a:pt x="327" y="1788"/>
                  </a:lnTo>
                  <a:lnTo>
                    <a:pt x="414" y="1746"/>
                  </a:lnTo>
                  <a:lnTo>
                    <a:pt x="458" y="1746"/>
                  </a:lnTo>
                  <a:lnTo>
                    <a:pt x="498" y="1788"/>
                  </a:lnTo>
                  <a:lnTo>
                    <a:pt x="535" y="1830"/>
                  </a:lnTo>
                  <a:lnTo>
                    <a:pt x="573" y="1900"/>
                  </a:lnTo>
                  <a:lnTo>
                    <a:pt x="608" y="1970"/>
                  </a:lnTo>
                  <a:lnTo>
                    <a:pt x="641" y="2081"/>
                  </a:lnTo>
                  <a:lnTo>
                    <a:pt x="670" y="2193"/>
                  </a:lnTo>
                  <a:lnTo>
                    <a:pt x="701" y="2347"/>
                  </a:lnTo>
                  <a:lnTo>
                    <a:pt x="701" y="0"/>
                  </a:lnTo>
                  <a:lnTo>
                    <a:pt x="1083" y="0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73520" y="2421000"/>
              <a:ext cx="411120" cy="1846080"/>
            </a:xfrm>
            <a:custGeom>
              <a:avLst/>
              <a:gdLst/>
              <a:ahLst/>
              <a:rect l="l" t="t" r="r" b="b"/>
              <a:pathLst>
                <a:path w="1141" h="5128">
                  <a:moveTo>
                    <a:pt x="757" y="2123"/>
                  </a:moveTo>
                  <a:lnTo>
                    <a:pt x="748" y="1872"/>
                  </a:lnTo>
                  <a:lnTo>
                    <a:pt x="737" y="1662"/>
                  </a:lnTo>
                  <a:lnTo>
                    <a:pt x="719" y="1495"/>
                  </a:lnTo>
                  <a:lnTo>
                    <a:pt x="699" y="1355"/>
                  </a:lnTo>
                  <a:lnTo>
                    <a:pt x="673" y="1243"/>
                  </a:lnTo>
                  <a:lnTo>
                    <a:pt x="641" y="1173"/>
                  </a:lnTo>
                  <a:lnTo>
                    <a:pt x="607" y="1132"/>
                  </a:lnTo>
                  <a:lnTo>
                    <a:pt x="572" y="1118"/>
                  </a:lnTo>
                  <a:lnTo>
                    <a:pt x="526" y="1132"/>
                  </a:lnTo>
                  <a:lnTo>
                    <a:pt x="488" y="1201"/>
                  </a:lnTo>
                  <a:lnTo>
                    <a:pt x="455" y="1313"/>
                  </a:lnTo>
                  <a:lnTo>
                    <a:pt x="428" y="1467"/>
                  </a:lnTo>
                  <a:lnTo>
                    <a:pt x="412" y="1593"/>
                  </a:lnTo>
                  <a:lnTo>
                    <a:pt x="399" y="1732"/>
                  </a:lnTo>
                  <a:lnTo>
                    <a:pt x="387" y="1914"/>
                  </a:lnTo>
                  <a:lnTo>
                    <a:pt x="383" y="2123"/>
                  </a:lnTo>
                  <a:lnTo>
                    <a:pt x="757" y="2123"/>
                  </a:lnTo>
                  <a:close/>
                  <a:moveTo>
                    <a:pt x="1140" y="3032"/>
                  </a:moveTo>
                  <a:lnTo>
                    <a:pt x="383" y="3032"/>
                  </a:lnTo>
                  <a:lnTo>
                    <a:pt x="390" y="3241"/>
                  </a:lnTo>
                  <a:lnTo>
                    <a:pt x="401" y="3423"/>
                  </a:lnTo>
                  <a:lnTo>
                    <a:pt x="414" y="3576"/>
                  </a:lnTo>
                  <a:lnTo>
                    <a:pt x="433" y="3702"/>
                  </a:lnTo>
                  <a:lnTo>
                    <a:pt x="462" y="3842"/>
                  </a:lnTo>
                  <a:lnTo>
                    <a:pt x="495" y="3940"/>
                  </a:lnTo>
                  <a:lnTo>
                    <a:pt x="533" y="4009"/>
                  </a:lnTo>
                  <a:lnTo>
                    <a:pt x="576" y="4023"/>
                  </a:lnTo>
                  <a:lnTo>
                    <a:pt x="603" y="4023"/>
                  </a:lnTo>
                  <a:lnTo>
                    <a:pt x="629" y="3995"/>
                  </a:lnTo>
                  <a:lnTo>
                    <a:pt x="654" y="3954"/>
                  </a:lnTo>
                  <a:lnTo>
                    <a:pt x="682" y="3898"/>
                  </a:lnTo>
                  <a:lnTo>
                    <a:pt x="695" y="3842"/>
                  </a:lnTo>
                  <a:lnTo>
                    <a:pt x="713" y="3772"/>
                  </a:lnTo>
                  <a:lnTo>
                    <a:pt x="728" y="3688"/>
                  </a:lnTo>
                  <a:lnTo>
                    <a:pt x="748" y="3576"/>
                  </a:lnTo>
                  <a:lnTo>
                    <a:pt x="1120" y="3744"/>
                  </a:lnTo>
                  <a:lnTo>
                    <a:pt x="1076" y="4079"/>
                  </a:lnTo>
                  <a:lnTo>
                    <a:pt x="1026" y="4373"/>
                  </a:lnTo>
                  <a:lnTo>
                    <a:pt x="972" y="4624"/>
                  </a:lnTo>
                  <a:lnTo>
                    <a:pt x="914" y="4806"/>
                  </a:lnTo>
                  <a:lnTo>
                    <a:pt x="847" y="4945"/>
                  </a:lnTo>
                  <a:lnTo>
                    <a:pt x="766" y="5043"/>
                  </a:lnTo>
                  <a:lnTo>
                    <a:pt x="675" y="5099"/>
                  </a:lnTo>
                  <a:lnTo>
                    <a:pt x="569" y="5127"/>
                  </a:lnTo>
                  <a:lnTo>
                    <a:pt x="475" y="5099"/>
                  </a:lnTo>
                  <a:lnTo>
                    <a:pt x="392" y="5057"/>
                  </a:lnTo>
                  <a:lnTo>
                    <a:pt x="321" y="4959"/>
                  </a:lnTo>
                  <a:lnTo>
                    <a:pt x="260" y="4848"/>
                  </a:lnTo>
                  <a:lnTo>
                    <a:pt x="206" y="4694"/>
                  </a:lnTo>
                  <a:lnTo>
                    <a:pt x="157" y="4498"/>
                  </a:lnTo>
                  <a:lnTo>
                    <a:pt x="112" y="4261"/>
                  </a:lnTo>
                  <a:lnTo>
                    <a:pt x="74" y="3981"/>
                  </a:lnTo>
                  <a:lnTo>
                    <a:pt x="40" y="3674"/>
                  </a:lnTo>
                  <a:lnTo>
                    <a:pt x="18" y="3339"/>
                  </a:lnTo>
                  <a:lnTo>
                    <a:pt x="4" y="2962"/>
                  </a:lnTo>
                  <a:lnTo>
                    <a:pt x="0" y="2570"/>
                  </a:lnTo>
                  <a:lnTo>
                    <a:pt x="9" y="2012"/>
                  </a:lnTo>
                  <a:lnTo>
                    <a:pt x="36" y="1523"/>
                  </a:lnTo>
                  <a:lnTo>
                    <a:pt x="83" y="1090"/>
                  </a:lnTo>
                  <a:lnTo>
                    <a:pt x="148" y="712"/>
                  </a:lnTo>
                  <a:lnTo>
                    <a:pt x="229" y="391"/>
                  </a:lnTo>
                  <a:lnTo>
                    <a:pt x="323" y="168"/>
                  </a:lnTo>
                  <a:lnTo>
                    <a:pt x="433" y="42"/>
                  </a:lnTo>
                  <a:lnTo>
                    <a:pt x="556" y="0"/>
                  </a:lnTo>
                  <a:lnTo>
                    <a:pt x="654" y="14"/>
                  </a:lnTo>
                  <a:lnTo>
                    <a:pt x="744" y="70"/>
                  </a:lnTo>
                  <a:lnTo>
                    <a:pt x="823" y="168"/>
                  </a:lnTo>
                  <a:lnTo>
                    <a:pt x="891" y="321"/>
                  </a:lnTo>
                  <a:lnTo>
                    <a:pt x="948" y="489"/>
                  </a:lnTo>
                  <a:lnTo>
                    <a:pt x="997" y="712"/>
                  </a:lnTo>
                  <a:lnTo>
                    <a:pt x="1042" y="950"/>
                  </a:lnTo>
                  <a:lnTo>
                    <a:pt x="1078" y="1243"/>
                  </a:lnTo>
                  <a:lnTo>
                    <a:pt x="1105" y="1565"/>
                  </a:lnTo>
                  <a:lnTo>
                    <a:pt x="1125" y="1942"/>
                  </a:lnTo>
                  <a:lnTo>
                    <a:pt x="1136" y="2347"/>
                  </a:lnTo>
                  <a:lnTo>
                    <a:pt x="1140" y="2822"/>
                  </a:lnTo>
                  <a:lnTo>
                    <a:pt x="1140" y="3032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56080" y="1752480"/>
              <a:ext cx="444600" cy="2514600"/>
            </a:xfrm>
            <a:custGeom>
              <a:avLst/>
              <a:gdLst/>
              <a:ahLst/>
              <a:rect l="l" t="t" r="r" b="b"/>
              <a:pathLst>
                <a:path w="1236" h="6986">
                  <a:moveTo>
                    <a:pt x="0" y="4638"/>
                  </a:moveTo>
                  <a:lnTo>
                    <a:pt x="400" y="4512"/>
                  </a:lnTo>
                  <a:lnTo>
                    <a:pt x="406" y="4736"/>
                  </a:lnTo>
                  <a:lnTo>
                    <a:pt x="420" y="4931"/>
                  </a:lnTo>
                  <a:lnTo>
                    <a:pt x="433" y="5099"/>
                  </a:lnTo>
                  <a:lnTo>
                    <a:pt x="453" y="5253"/>
                  </a:lnTo>
                  <a:lnTo>
                    <a:pt x="486" y="5434"/>
                  </a:lnTo>
                  <a:lnTo>
                    <a:pt x="532" y="5546"/>
                  </a:lnTo>
                  <a:lnTo>
                    <a:pt x="581" y="5630"/>
                  </a:lnTo>
                  <a:lnTo>
                    <a:pt x="639" y="5658"/>
                  </a:lnTo>
                  <a:lnTo>
                    <a:pt x="679" y="5644"/>
                  </a:lnTo>
                  <a:lnTo>
                    <a:pt x="717" y="5602"/>
                  </a:lnTo>
                  <a:lnTo>
                    <a:pt x="748" y="5546"/>
                  </a:lnTo>
                  <a:lnTo>
                    <a:pt x="778" y="5448"/>
                  </a:lnTo>
                  <a:lnTo>
                    <a:pt x="798" y="5337"/>
                  </a:lnTo>
                  <a:lnTo>
                    <a:pt x="814" y="5211"/>
                  </a:lnTo>
                  <a:lnTo>
                    <a:pt x="823" y="5099"/>
                  </a:lnTo>
                  <a:lnTo>
                    <a:pt x="827" y="4973"/>
                  </a:lnTo>
                  <a:lnTo>
                    <a:pt x="823" y="4834"/>
                  </a:lnTo>
                  <a:lnTo>
                    <a:pt x="814" y="4708"/>
                  </a:lnTo>
                  <a:lnTo>
                    <a:pt x="800" y="4596"/>
                  </a:lnTo>
                  <a:lnTo>
                    <a:pt x="780" y="4498"/>
                  </a:lnTo>
                  <a:lnTo>
                    <a:pt x="748" y="4387"/>
                  </a:lnTo>
                  <a:lnTo>
                    <a:pt x="702" y="4289"/>
                  </a:lnTo>
                  <a:lnTo>
                    <a:pt x="642" y="4205"/>
                  </a:lnTo>
                  <a:lnTo>
                    <a:pt x="565" y="4107"/>
                  </a:lnTo>
                  <a:lnTo>
                    <a:pt x="435" y="3926"/>
                  </a:lnTo>
                  <a:lnTo>
                    <a:pt x="327" y="3744"/>
                  </a:lnTo>
                  <a:lnTo>
                    <a:pt x="238" y="3520"/>
                  </a:lnTo>
                  <a:lnTo>
                    <a:pt x="171" y="3283"/>
                  </a:lnTo>
                  <a:lnTo>
                    <a:pt x="117" y="3004"/>
                  </a:lnTo>
                  <a:lnTo>
                    <a:pt x="81" y="2696"/>
                  </a:lnTo>
                  <a:lnTo>
                    <a:pt x="59" y="2347"/>
                  </a:lnTo>
                  <a:lnTo>
                    <a:pt x="52" y="1970"/>
                  </a:lnTo>
                  <a:lnTo>
                    <a:pt x="54" y="1718"/>
                  </a:lnTo>
                  <a:lnTo>
                    <a:pt x="65" y="1467"/>
                  </a:lnTo>
                  <a:lnTo>
                    <a:pt x="85" y="1229"/>
                  </a:lnTo>
                  <a:lnTo>
                    <a:pt x="112" y="992"/>
                  </a:lnTo>
                  <a:lnTo>
                    <a:pt x="146" y="768"/>
                  </a:lnTo>
                  <a:lnTo>
                    <a:pt x="186" y="573"/>
                  </a:lnTo>
                  <a:lnTo>
                    <a:pt x="238" y="405"/>
                  </a:lnTo>
                  <a:lnTo>
                    <a:pt x="296" y="251"/>
                  </a:lnTo>
                  <a:lnTo>
                    <a:pt x="361" y="140"/>
                  </a:lnTo>
                  <a:lnTo>
                    <a:pt x="440" y="56"/>
                  </a:lnTo>
                  <a:lnTo>
                    <a:pt x="529" y="14"/>
                  </a:lnTo>
                  <a:lnTo>
                    <a:pt x="630" y="0"/>
                  </a:lnTo>
                  <a:lnTo>
                    <a:pt x="751" y="14"/>
                  </a:lnTo>
                  <a:lnTo>
                    <a:pt x="858" y="112"/>
                  </a:lnTo>
                  <a:lnTo>
                    <a:pt x="948" y="265"/>
                  </a:lnTo>
                  <a:lnTo>
                    <a:pt x="1027" y="475"/>
                  </a:lnTo>
                  <a:lnTo>
                    <a:pt x="1087" y="740"/>
                  </a:lnTo>
                  <a:lnTo>
                    <a:pt x="1135" y="1104"/>
                  </a:lnTo>
                  <a:lnTo>
                    <a:pt x="1168" y="1523"/>
                  </a:lnTo>
                  <a:lnTo>
                    <a:pt x="1190" y="2026"/>
                  </a:lnTo>
                  <a:lnTo>
                    <a:pt x="794" y="2137"/>
                  </a:lnTo>
                  <a:lnTo>
                    <a:pt x="783" y="1914"/>
                  </a:lnTo>
                  <a:lnTo>
                    <a:pt x="769" y="1732"/>
                  </a:lnTo>
                  <a:lnTo>
                    <a:pt x="751" y="1579"/>
                  </a:lnTo>
                  <a:lnTo>
                    <a:pt x="728" y="1467"/>
                  </a:lnTo>
                  <a:lnTo>
                    <a:pt x="699" y="1369"/>
                  </a:lnTo>
                  <a:lnTo>
                    <a:pt x="668" y="1299"/>
                  </a:lnTo>
                  <a:lnTo>
                    <a:pt x="630" y="1271"/>
                  </a:lnTo>
                  <a:lnTo>
                    <a:pt x="587" y="1257"/>
                  </a:lnTo>
                  <a:lnTo>
                    <a:pt x="552" y="1257"/>
                  </a:lnTo>
                  <a:lnTo>
                    <a:pt x="523" y="1299"/>
                  </a:lnTo>
                  <a:lnTo>
                    <a:pt x="497" y="1355"/>
                  </a:lnTo>
                  <a:lnTo>
                    <a:pt x="477" y="1411"/>
                  </a:lnTo>
                  <a:lnTo>
                    <a:pt x="460" y="1495"/>
                  </a:lnTo>
                  <a:lnTo>
                    <a:pt x="448" y="1579"/>
                  </a:lnTo>
                  <a:lnTo>
                    <a:pt x="442" y="1676"/>
                  </a:lnTo>
                  <a:lnTo>
                    <a:pt x="440" y="1788"/>
                  </a:lnTo>
                  <a:lnTo>
                    <a:pt x="440" y="1858"/>
                  </a:lnTo>
                  <a:lnTo>
                    <a:pt x="446" y="1942"/>
                  </a:lnTo>
                  <a:lnTo>
                    <a:pt x="457" y="2012"/>
                  </a:lnTo>
                  <a:lnTo>
                    <a:pt x="471" y="2082"/>
                  </a:lnTo>
                  <a:lnTo>
                    <a:pt x="491" y="2137"/>
                  </a:lnTo>
                  <a:lnTo>
                    <a:pt x="521" y="2193"/>
                  </a:lnTo>
                  <a:lnTo>
                    <a:pt x="561" y="2263"/>
                  </a:lnTo>
                  <a:lnTo>
                    <a:pt x="612" y="2333"/>
                  </a:lnTo>
                  <a:lnTo>
                    <a:pt x="739" y="2473"/>
                  </a:lnTo>
                  <a:lnTo>
                    <a:pt x="847" y="2626"/>
                  </a:lnTo>
                  <a:lnTo>
                    <a:pt x="937" y="2766"/>
                  </a:lnTo>
                  <a:lnTo>
                    <a:pt x="1009" y="2920"/>
                  </a:lnTo>
                  <a:lnTo>
                    <a:pt x="1062" y="3087"/>
                  </a:lnTo>
                  <a:lnTo>
                    <a:pt x="1109" y="3255"/>
                  </a:lnTo>
                  <a:lnTo>
                    <a:pt x="1150" y="3451"/>
                  </a:lnTo>
                  <a:lnTo>
                    <a:pt x="1181" y="3674"/>
                  </a:lnTo>
                  <a:lnTo>
                    <a:pt x="1203" y="3898"/>
                  </a:lnTo>
                  <a:lnTo>
                    <a:pt x="1221" y="4149"/>
                  </a:lnTo>
                  <a:lnTo>
                    <a:pt x="1230" y="4401"/>
                  </a:lnTo>
                  <a:lnTo>
                    <a:pt x="1235" y="4680"/>
                  </a:lnTo>
                  <a:lnTo>
                    <a:pt x="1228" y="4987"/>
                  </a:lnTo>
                  <a:lnTo>
                    <a:pt x="1215" y="5295"/>
                  </a:lnTo>
                  <a:lnTo>
                    <a:pt x="1192" y="5588"/>
                  </a:lnTo>
                  <a:lnTo>
                    <a:pt x="1163" y="5881"/>
                  </a:lnTo>
                  <a:lnTo>
                    <a:pt x="1121" y="6133"/>
                  </a:lnTo>
                  <a:lnTo>
                    <a:pt x="1074" y="6356"/>
                  </a:lnTo>
                  <a:lnTo>
                    <a:pt x="1020" y="6538"/>
                  </a:lnTo>
                  <a:lnTo>
                    <a:pt x="959" y="6706"/>
                  </a:lnTo>
                  <a:lnTo>
                    <a:pt x="890" y="6817"/>
                  </a:lnTo>
                  <a:lnTo>
                    <a:pt x="812" y="6901"/>
                  </a:lnTo>
                  <a:lnTo>
                    <a:pt x="726" y="6957"/>
                  </a:lnTo>
                  <a:lnTo>
                    <a:pt x="633" y="6985"/>
                  </a:lnTo>
                  <a:lnTo>
                    <a:pt x="471" y="6929"/>
                  </a:lnTo>
                  <a:lnTo>
                    <a:pt x="339" y="6817"/>
                  </a:lnTo>
                  <a:lnTo>
                    <a:pt x="231" y="6608"/>
                  </a:lnTo>
                  <a:lnTo>
                    <a:pt x="153" y="6328"/>
                  </a:lnTo>
                  <a:lnTo>
                    <a:pt x="92" y="5965"/>
                  </a:lnTo>
                  <a:lnTo>
                    <a:pt x="45" y="5560"/>
                  </a:lnTo>
                  <a:lnTo>
                    <a:pt x="17" y="5113"/>
                  </a:lnTo>
                  <a:lnTo>
                    <a:pt x="0" y="4638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67280" y="3548160"/>
              <a:ext cx="146160" cy="679320"/>
            </a:xfrm>
            <a:custGeom>
              <a:avLst/>
              <a:gdLst/>
              <a:ahLst/>
              <a:rect l="l" t="t" r="r" b="b"/>
              <a:pathLst>
                <a:path w="404" h="1887">
                  <a:moveTo>
                    <a:pt x="0" y="0"/>
                  </a:moveTo>
                  <a:lnTo>
                    <a:pt x="403" y="0"/>
                  </a:lnTo>
                  <a:lnTo>
                    <a:pt x="403" y="1886"/>
                  </a:lnTo>
                  <a:lnTo>
                    <a:pt x="0" y="188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29160" y="1792440"/>
              <a:ext cx="550800" cy="2433600"/>
            </a:xfrm>
            <a:custGeom>
              <a:avLst/>
              <a:gdLst/>
              <a:ahLst/>
              <a:rect l="l" t="t" r="r" b="b"/>
              <a:pathLst>
                <a:path w="1530" h="6762">
                  <a:moveTo>
                    <a:pt x="0" y="0"/>
                  </a:moveTo>
                  <a:lnTo>
                    <a:pt x="554" y="0"/>
                  </a:lnTo>
                  <a:lnTo>
                    <a:pt x="765" y="4121"/>
                  </a:lnTo>
                  <a:lnTo>
                    <a:pt x="977" y="0"/>
                  </a:lnTo>
                  <a:lnTo>
                    <a:pt x="1529" y="0"/>
                  </a:lnTo>
                  <a:lnTo>
                    <a:pt x="1529" y="6761"/>
                  </a:lnTo>
                  <a:lnTo>
                    <a:pt x="1186" y="6761"/>
                  </a:lnTo>
                  <a:lnTo>
                    <a:pt x="1186" y="1606"/>
                  </a:lnTo>
                  <a:lnTo>
                    <a:pt x="919" y="6761"/>
                  </a:lnTo>
                  <a:lnTo>
                    <a:pt x="610" y="6761"/>
                  </a:lnTo>
                  <a:lnTo>
                    <a:pt x="343" y="1606"/>
                  </a:lnTo>
                  <a:lnTo>
                    <a:pt x="343" y="6761"/>
                  </a:lnTo>
                  <a:lnTo>
                    <a:pt x="0" y="67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49800" y="2421000"/>
              <a:ext cx="408240" cy="1846080"/>
            </a:xfrm>
            <a:custGeom>
              <a:avLst/>
              <a:gdLst/>
              <a:ahLst/>
              <a:rect l="l" t="t" r="r" b="b"/>
              <a:pathLst>
                <a:path w="1135" h="5128">
                  <a:moveTo>
                    <a:pt x="717" y="2696"/>
                  </a:moveTo>
                  <a:lnTo>
                    <a:pt x="677" y="2752"/>
                  </a:lnTo>
                  <a:lnTo>
                    <a:pt x="636" y="2822"/>
                  </a:lnTo>
                  <a:lnTo>
                    <a:pt x="596" y="2878"/>
                  </a:lnTo>
                  <a:lnTo>
                    <a:pt x="556" y="2948"/>
                  </a:lnTo>
                  <a:lnTo>
                    <a:pt x="502" y="3018"/>
                  </a:lnTo>
                  <a:lnTo>
                    <a:pt x="462" y="3087"/>
                  </a:lnTo>
                  <a:lnTo>
                    <a:pt x="431" y="3171"/>
                  </a:lnTo>
                  <a:lnTo>
                    <a:pt x="411" y="3241"/>
                  </a:lnTo>
                  <a:lnTo>
                    <a:pt x="398" y="3311"/>
                  </a:lnTo>
                  <a:lnTo>
                    <a:pt x="386" y="3409"/>
                  </a:lnTo>
                  <a:lnTo>
                    <a:pt x="379" y="3493"/>
                  </a:lnTo>
                  <a:lnTo>
                    <a:pt x="379" y="3590"/>
                  </a:lnTo>
                  <a:lnTo>
                    <a:pt x="379" y="3688"/>
                  </a:lnTo>
                  <a:lnTo>
                    <a:pt x="386" y="3786"/>
                  </a:lnTo>
                  <a:lnTo>
                    <a:pt x="398" y="3870"/>
                  </a:lnTo>
                  <a:lnTo>
                    <a:pt x="411" y="3954"/>
                  </a:lnTo>
                  <a:lnTo>
                    <a:pt x="427" y="4009"/>
                  </a:lnTo>
                  <a:lnTo>
                    <a:pt x="449" y="4051"/>
                  </a:lnTo>
                  <a:lnTo>
                    <a:pt x="471" y="4079"/>
                  </a:lnTo>
                  <a:lnTo>
                    <a:pt x="500" y="4093"/>
                  </a:lnTo>
                  <a:lnTo>
                    <a:pt x="532" y="4079"/>
                  </a:lnTo>
                  <a:lnTo>
                    <a:pt x="561" y="4051"/>
                  </a:lnTo>
                  <a:lnTo>
                    <a:pt x="590" y="3995"/>
                  </a:lnTo>
                  <a:lnTo>
                    <a:pt x="619" y="3940"/>
                  </a:lnTo>
                  <a:lnTo>
                    <a:pt x="644" y="3856"/>
                  </a:lnTo>
                  <a:lnTo>
                    <a:pt x="664" y="3772"/>
                  </a:lnTo>
                  <a:lnTo>
                    <a:pt x="680" y="3674"/>
                  </a:lnTo>
                  <a:lnTo>
                    <a:pt x="695" y="3576"/>
                  </a:lnTo>
                  <a:lnTo>
                    <a:pt x="704" y="3451"/>
                  </a:lnTo>
                  <a:lnTo>
                    <a:pt x="711" y="3311"/>
                  </a:lnTo>
                  <a:lnTo>
                    <a:pt x="715" y="3171"/>
                  </a:lnTo>
                  <a:lnTo>
                    <a:pt x="717" y="3004"/>
                  </a:lnTo>
                  <a:lnTo>
                    <a:pt x="717" y="2696"/>
                  </a:lnTo>
                  <a:close/>
                  <a:moveTo>
                    <a:pt x="390" y="1704"/>
                  </a:moveTo>
                  <a:lnTo>
                    <a:pt x="30" y="1509"/>
                  </a:lnTo>
                  <a:lnTo>
                    <a:pt x="41" y="1285"/>
                  </a:lnTo>
                  <a:lnTo>
                    <a:pt x="55" y="1090"/>
                  </a:lnTo>
                  <a:lnTo>
                    <a:pt x="70" y="922"/>
                  </a:lnTo>
                  <a:lnTo>
                    <a:pt x="88" y="782"/>
                  </a:lnTo>
                  <a:lnTo>
                    <a:pt x="108" y="643"/>
                  </a:lnTo>
                  <a:lnTo>
                    <a:pt x="132" y="517"/>
                  </a:lnTo>
                  <a:lnTo>
                    <a:pt x="165" y="405"/>
                  </a:lnTo>
                  <a:lnTo>
                    <a:pt x="200" y="307"/>
                  </a:lnTo>
                  <a:lnTo>
                    <a:pt x="227" y="224"/>
                  </a:lnTo>
                  <a:lnTo>
                    <a:pt x="260" y="168"/>
                  </a:lnTo>
                  <a:lnTo>
                    <a:pt x="299" y="112"/>
                  </a:lnTo>
                  <a:lnTo>
                    <a:pt x="343" y="84"/>
                  </a:lnTo>
                  <a:lnTo>
                    <a:pt x="388" y="42"/>
                  </a:lnTo>
                  <a:lnTo>
                    <a:pt x="438" y="14"/>
                  </a:lnTo>
                  <a:lnTo>
                    <a:pt x="487" y="0"/>
                  </a:lnTo>
                  <a:lnTo>
                    <a:pt x="539" y="0"/>
                  </a:lnTo>
                  <a:lnTo>
                    <a:pt x="619" y="0"/>
                  </a:lnTo>
                  <a:lnTo>
                    <a:pt x="691" y="28"/>
                  </a:lnTo>
                  <a:lnTo>
                    <a:pt x="755" y="56"/>
                  </a:lnTo>
                  <a:lnTo>
                    <a:pt x="812" y="98"/>
                  </a:lnTo>
                  <a:lnTo>
                    <a:pt x="861" y="154"/>
                  </a:lnTo>
                  <a:lnTo>
                    <a:pt x="906" y="238"/>
                  </a:lnTo>
                  <a:lnTo>
                    <a:pt x="946" y="349"/>
                  </a:lnTo>
                  <a:lnTo>
                    <a:pt x="984" y="503"/>
                  </a:lnTo>
                  <a:lnTo>
                    <a:pt x="1004" y="601"/>
                  </a:lnTo>
                  <a:lnTo>
                    <a:pt x="1025" y="726"/>
                  </a:lnTo>
                  <a:lnTo>
                    <a:pt x="1043" y="894"/>
                  </a:lnTo>
                  <a:lnTo>
                    <a:pt x="1060" y="1076"/>
                  </a:lnTo>
                  <a:lnTo>
                    <a:pt x="1072" y="1271"/>
                  </a:lnTo>
                  <a:lnTo>
                    <a:pt x="1080" y="1453"/>
                  </a:lnTo>
                  <a:lnTo>
                    <a:pt x="1085" y="1635"/>
                  </a:lnTo>
                  <a:lnTo>
                    <a:pt x="1087" y="1816"/>
                  </a:lnTo>
                  <a:lnTo>
                    <a:pt x="1087" y="3981"/>
                  </a:lnTo>
                  <a:lnTo>
                    <a:pt x="1087" y="4135"/>
                  </a:lnTo>
                  <a:lnTo>
                    <a:pt x="1087" y="4289"/>
                  </a:lnTo>
                  <a:lnTo>
                    <a:pt x="1092" y="4415"/>
                  </a:lnTo>
                  <a:lnTo>
                    <a:pt x="1096" y="4526"/>
                  </a:lnTo>
                  <a:lnTo>
                    <a:pt x="1100" y="4624"/>
                  </a:lnTo>
                  <a:lnTo>
                    <a:pt x="1109" y="4736"/>
                  </a:lnTo>
                  <a:lnTo>
                    <a:pt x="1118" y="4876"/>
                  </a:lnTo>
                  <a:lnTo>
                    <a:pt x="1134" y="5015"/>
                  </a:lnTo>
                  <a:lnTo>
                    <a:pt x="781" y="5015"/>
                  </a:lnTo>
                  <a:lnTo>
                    <a:pt x="770" y="4931"/>
                  </a:lnTo>
                  <a:lnTo>
                    <a:pt x="760" y="4848"/>
                  </a:lnTo>
                  <a:lnTo>
                    <a:pt x="753" y="4792"/>
                  </a:lnTo>
                  <a:lnTo>
                    <a:pt x="751" y="4736"/>
                  </a:lnTo>
                  <a:lnTo>
                    <a:pt x="746" y="4666"/>
                  </a:lnTo>
                  <a:lnTo>
                    <a:pt x="744" y="4596"/>
                  </a:lnTo>
                  <a:lnTo>
                    <a:pt x="740" y="4526"/>
                  </a:lnTo>
                  <a:lnTo>
                    <a:pt x="740" y="4429"/>
                  </a:lnTo>
                  <a:lnTo>
                    <a:pt x="700" y="4582"/>
                  </a:lnTo>
                  <a:lnTo>
                    <a:pt x="664" y="4736"/>
                  </a:lnTo>
                  <a:lnTo>
                    <a:pt x="625" y="4848"/>
                  </a:lnTo>
                  <a:lnTo>
                    <a:pt x="592" y="4931"/>
                  </a:lnTo>
                  <a:lnTo>
                    <a:pt x="539" y="5015"/>
                  </a:lnTo>
                  <a:lnTo>
                    <a:pt x="482" y="5071"/>
                  </a:lnTo>
                  <a:lnTo>
                    <a:pt x="422" y="5113"/>
                  </a:lnTo>
                  <a:lnTo>
                    <a:pt x="359" y="5127"/>
                  </a:lnTo>
                  <a:lnTo>
                    <a:pt x="274" y="5099"/>
                  </a:lnTo>
                  <a:lnTo>
                    <a:pt x="202" y="5015"/>
                  </a:lnTo>
                  <a:lnTo>
                    <a:pt x="141" y="4903"/>
                  </a:lnTo>
                  <a:lnTo>
                    <a:pt x="92" y="4722"/>
                  </a:lnTo>
                  <a:lnTo>
                    <a:pt x="52" y="4498"/>
                  </a:lnTo>
                  <a:lnTo>
                    <a:pt x="23" y="4261"/>
                  </a:lnTo>
                  <a:lnTo>
                    <a:pt x="5" y="4009"/>
                  </a:lnTo>
                  <a:lnTo>
                    <a:pt x="0" y="3730"/>
                  </a:lnTo>
                  <a:lnTo>
                    <a:pt x="3" y="3465"/>
                  </a:lnTo>
                  <a:lnTo>
                    <a:pt x="16" y="3213"/>
                  </a:lnTo>
                  <a:lnTo>
                    <a:pt x="37" y="3004"/>
                  </a:lnTo>
                  <a:lnTo>
                    <a:pt x="66" y="2808"/>
                  </a:lnTo>
                  <a:lnTo>
                    <a:pt x="106" y="2626"/>
                  </a:lnTo>
                  <a:lnTo>
                    <a:pt x="160" y="2487"/>
                  </a:lnTo>
                  <a:lnTo>
                    <a:pt x="227" y="2361"/>
                  </a:lnTo>
                  <a:lnTo>
                    <a:pt x="310" y="2277"/>
                  </a:lnTo>
                  <a:lnTo>
                    <a:pt x="407" y="2179"/>
                  </a:lnTo>
                  <a:lnTo>
                    <a:pt x="484" y="2082"/>
                  </a:lnTo>
                  <a:lnTo>
                    <a:pt x="543" y="2012"/>
                  </a:lnTo>
                  <a:lnTo>
                    <a:pt x="585" y="1970"/>
                  </a:lnTo>
                  <a:lnTo>
                    <a:pt x="616" y="1914"/>
                  </a:lnTo>
                  <a:lnTo>
                    <a:pt x="649" y="1872"/>
                  </a:lnTo>
                  <a:lnTo>
                    <a:pt x="682" y="1802"/>
                  </a:lnTo>
                  <a:lnTo>
                    <a:pt x="717" y="1746"/>
                  </a:lnTo>
                  <a:lnTo>
                    <a:pt x="715" y="1579"/>
                  </a:lnTo>
                  <a:lnTo>
                    <a:pt x="709" y="1453"/>
                  </a:lnTo>
                  <a:lnTo>
                    <a:pt x="700" y="1341"/>
                  </a:lnTo>
                  <a:lnTo>
                    <a:pt x="689" y="1257"/>
                  </a:lnTo>
                  <a:lnTo>
                    <a:pt x="671" y="1187"/>
                  </a:lnTo>
                  <a:lnTo>
                    <a:pt x="649" y="1160"/>
                  </a:lnTo>
                  <a:lnTo>
                    <a:pt x="619" y="1118"/>
                  </a:lnTo>
                  <a:lnTo>
                    <a:pt x="588" y="1118"/>
                  </a:lnTo>
                  <a:lnTo>
                    <a:pt x="543" y="1118"/>
                  </a:lnTo>
                  <a:lnTo>
                    <a:pt x="507" y="1160"/>
                  </a:lnTo>
                  <a:lnTo>
                    <a:pt x="473" y="1201"/>
                  </a:lnTo>
                  <a:lnTo>
                    <a:pt x="449" y="1271"/>
                  </a:lnTo>
                  <a:lnTo>
                    <a:pt x="431" y="1341"/>
                  </a:lnTo>
                  <a:lnTo>
                    <a:pt x="415" y="1439"/>
                  </a:lnTo>
                  <a:lnTo>
                    <a:pt x="402" y="1551"/>
                  </a:lnTo>
                  <a:lnTo>
                    <a:pt x="390" y="1704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4640" y="2421000"/>
              <a:ext cx="279360" cy="1805040"/>
            </a:xfrm>
            <a:custGeom>
              <a:avLst/>
              <a:gdLst/>
              <a:ahLst/>
              <a:rect l="l" t="t" r="r" b="b"/>
              <a:pathLst>
                <a:path w="776" h="5016">
                  <a:moveTo>
                    <a:pt x="0" y="112"/>
                  </a:moveTo>
                  <a:lnTo>
                    <a:pt x="352" y="112"/>
                  </a:lnTo>
                  <a:lnTo>
                    <a:pt x="352" y="922"/>
                  </a:lnTo>
                  <a:lnTo>
                    <a:pt x="376" y="671"/>
                  </a:lnTo>
                  <a:lnTo>
                    <a:pt x="403" y="475"/>
                  </a:lnTo>
                  <a:lnTo>
                    <a:pt x="430" y="307"/>
                  </a:lnTo>
                  <a:lnTo>
                    <a:pt x="460" y="196"/>
                  </a:lnTo>
                  <a:lnTo>
                    <a:pt x="486" y="112"/>
                  </a:lnTo>
                  <a:lnTo>
                    <a:pt x="517" y="56"/>
                  </a:lnTo>
                  <a:lnTo>
                    <a:pt x="553" y="14"/>
                  </a:lnTo>
                  <a:lnTo>
                    <a:pt x="592" y="0"/>
                  </a:lnTo>
                  <a:lnTo>
                    <a:pt x="634" y="14"/>
                  </a:lnTo>
                  <a:lnTo>
                    <a:pt x="678" y="56"/>
                  </a:lnTo>
                  <a:lnTo>
                    <a:pt x="726" y="154"/>
                  </a:lnTo>
                  <a:lnTo>
                    <a:pt x="775" y="265"/>
                  </a:lnTo>
                  <a:lnTo>
                    <a:pt x="658" y="1607"/>
                  </a:lnTo>
                  <a:lnTo>
                    <a:pt x="625" y="1537"/>
                  </a:lnTo>
                  <a:lnTo>
                    <a:pt x="598" y="1509"/>
                  </a:lnTo>
                  <a:lnTo>
                    <a:pt x="574" y="1467"/>
                  </a:lnTo>
                  <a:lnTo>
                    <a:pt x="553" y="1467"/>
                  </a:lnTo>
                  <a:lnTo>
                    <a:pt x="515" y="1481"/>
                  </a:lnTo>
                  <a:lnTo>
                    <a:pt x="484" y="1537"/>
                  </a:lnTo>
                  <a:lnTo>
                    <a:pt x="457" y="1635"/>
                  </a:lnTo>
                  <a:lnTo>
                    <a:pt x="437" y="1774"/>
                  </a:lnTo>
                  <a:lnTo>
                    <a:pt x="410" y="2026"/>
                  </a:lnTo>
                  <a:lnTo>
                    <a:pt x="392" y="2389"/>
                  </a:lnTo>
                  <a:lnTo>
                    <a:pt x="381" y="2836"/>
                  </a:lnTo>
                  <a:lnTo>
                    <a:pt x="379" y="3381"/>
                  </a:lnTo>
                  <a:lnTo>
                    <a:pt x="379" y="5015"/>
                  </a:lnTo>
                  <a:lnTo>
                    <a:pt x="0" y="5015"/>
                  </a:lnTo>
                  <a:lnTo>
                    <a:pt x="0" y="112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04000" y="1792440"/>
              <a:ext cx="266760" cy="2474640"/>
            </a:xfrm>
            <a:custGeom>
              <a:avLst/>
              <a:gdLst/>
              <a:ahLst/>
              <a:rect l="l" t="t" r="r" b="b"/>
              <a:pathLst>
                <a:path w="740" h="6874">
                  <a:moveTo>
                    <a:pt x="517" y="0"/>
                  </a:moveTo>
                  <a:lnTo>
                    <a:pt x="517" y="1858"/>
                  </a:lnTo>
                  <a:lnTo>
                    <a:pt x="726" y="1858"/>
                  </a:lnTo>
                  <a:lnTo>
                    <a:pt x="726" y="3241"/>
                  </a:lnTo>
                  <a:lnTo>
                    <a:pt x="517" y="3241"/>
                  </a:lnTo>
                  <a:lnTo>
                    <a:pt x="517" y="4987"/>
                  </a:lnTo>
                  <a:lnTo>
                    <a:pt x="517" y="5113"/>
                  </a:lnTo>
                  <a:lnTo>
                    <a:pt x="520" y="5239"/>
                  </a:lnTo>
                  <a:lnTo>
                    <a:pt x="522" y="5322"/>
                  </a:lnTo>
                  <a:lnTo>
                    <a:pt x="529" y="5392"/>
                  </a:lnTo>
                  <a:lnTo>
                    <a:pt x="541" y="5448"/>
                  </a:lnTo>
                  <a:lnTo>
                    <a:pt x="554" y="5504"/>
                  </a:lnTo>
                  <a:lnTo>
                    <a:pt x="572" y="5546"/>
                  </a:lnTo>
                  <a:lnTo>
                    <a:pt x="594" y="5546"/>
                  </a:lnTo>
                  <a:lnTo>
                    <a:pt x="616" y="5546"/>
                  </a:lnTo>
                  <a:lnTo>
                    <a:pt x="643" y="5518"/>
                  </a:lnTo>
                  <a:lnTo>
                    <a:pt x="675" y="5476"/>
                  </a:lnTo>
                  <a:lnTo>
                    <a:pt x="713" y="5434"/>
                  </a:lnTo>
                  <a:lnTo>
                    <a:pt x="739" y="6719"/>
                  </a:lnTo>
                  <a:lnTo>
                    <a:pt x="670" y="6775"/>
                  </a:lnTo>
                  <a:lnTo>
                    <a:pt x="603" y="6817"/>
                  </a:lnTo>
                  <a:lnTo>
                    <a:pt x="538" y="6859"/>
                  </a:lnTo>
                  <a:lnTo>
                    <a:pt x="477" y="6873"/>
                  </a:lnTo>
                  <a:lnTo>
                    <a:pt x="411" y="6859"/>
                  </a:lnTo>
                  <a:lnTo>
                    <a:pt x="354" y="6817"/>
                  </a:lnTo>
                  <a:lnTo>
                    <a:pt x="307" y="6761"/>
                  </a:lnTo>
                  <a:lnTo>
                    <a:pt x="271" y="6705"/>
                  </a:lnTo>
                  <a:lnTo>
                    <a:pt x="237" y="6594"/>
                  </a:lnTo>
                  <a:lnTo>
                    <a:pt x="211" y="6468"/>
                  </a:lnTo>
                  <a:lnTo>
                    <a:pt x="189" y="6328"/>
                  </a:lnTo>
                  <a:lnTo>
                    <a:pt x="173" y="6161"/>
                  </a:lnTo>
                  <a:lnTo>
                    <a:pt x="157" y="5937"/>
                  </a:lnTo>
                  <a:lnTo>
                    <a:pt x="145" y="5672"/>
                  </a:lnTo>
                  <a:lnTo>
                    <a:pt x="139" y="5350"/>
                  </a:lnTo>
                  <a:lnTo>
                    <a:pt x="139" y="4973"/>
                  </a:lnTo>
                  <a:lnTo>
                    <a:pt x="139" y="3241"/>
                  </a:lnTo>
                  <a:lnTo>
                    <a:pt x="0" y="3241"/>
                  </a:lnTo>
                  <a:lnTo>
                    <a:pt x="0" y="1858"/>
                  </a:lnTo>
                  <a:lnTo>
                    <a:pt x="139" y="1858"/>
                  </a:lnTo>
                  <a:lnTo>
                    <a:pt x="139" y="964"/>
                  </a:lnTo>
                  <a:lnTo>
                    <a:pt x="517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34120" y="1792440"/>
              <a:ext cx="135000" cy="2433600"/>
            </a:xfrm>
            <a:custGeom>
              <a:avLst/>
              <a:gdLst/>
              <a:ahLst/>
              <a:rect l="l" t="t" r="r" b="b"/>
              <a:pathLst>
                <a:path w="377" h="6762">
                  <a:moveTo>
                    <a:pt x="0" y="1858"/>
                  </a:moveTo>
                  <a:lnTo>
                    <a:pt x="376" y="1858"/>
                  </a:lnTo>
                  <a:lnTo>
                    <a:pt x="376" y="6761"/>
                  </a:lnTo>
                  <a:lnTo>
                    <a:pt x="0" y="6761"/>
                  </a:lnTo>
                  <a:lnTo>
                    <a:pt x="0" y="1858"/>
                  </a:lnTo>
                  <a:close/>
                  <a:moveTo>
                    <a:pt x="0" y="0"/>
                  </a:moveTo>
                  <a:lnTo>
                    <a:pt x="376" y="0"/>
                  </a:lnTo>
                  <a:lnTo>
                    <a:pt x="376" y="1271"/>
                  </a:lnTo>
                  <a:lnTo>
                    <a:pt x="0" y="127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56600" y="2421000"/>
              <a:ext cx="374400" cy="1805040"/>
            </a:xfrm>
            <a:custGeom>
              <a:avLst/>
              <a:gdLst/>
              <a:ahLst/>
              <a:rect l="l" t="t" r="r" b="b"/>
              <a:pathLst>
                <a:path w="1041" h="5016">
                  <a:moveTo>
                    <a:pt x="0" y="112"/>
                  </a:moveTo>
                  <a:lnTo>
                    <a:pt x="350" y="112"/>
                  </a:lnTo>
                  <a:lnTo>
                    <a:pt x="350" y="922"/>
                  </a:lnTo>
                  <a:lnTo>
                    <a:pt x="390" y="685"/>
                  </a:lnTo>
                  <a:lnTo>
                    <a:pt x="430" y="503"/>
                  </a:lnTo>
                  <a:lnTo>
                    <a:pt x="471" y="335"/>
                  </a:lnTo>
                  <a:lnTo>
                    <a:pt x="511" y="224"/>
                  </a:lnTo>
                  <a:lnTo>
                    <a:pt x="551" y="112"/>
                  </a:lnTo>
                  <a:lnTo>
                    <a:pt x="599" y="56"/>
                  </a:lnTo>
                  <a:lnTo>
                    <a:pt x="650" y="14"/>
                  </a:lnTo>
                  <a:lnTo>
                    <a:pt x="705" y="0"/>
                  </a:lnTo>
                  <a:lnTo>
                    <a:pt x="780" y="28"/>
                  </a:lnTo>
                  <a:lnTo>
                    <a:pt x="845" y="112"/>
                  </a:lnTo>
                  <a:lnTo>
                    <a:pt x="903" y="265"/>
                  </a:lnTo>
                  <a:lnTo>
                    <a:pt x="952" y="461"/>
                  </a:lnTo>
                  <a:lnTo>
                    <a:pt x="991" y="726"/>
                  </a:lnTo>
                  <a:lnTo>
                    <a:pt x="1017" y="1062"/>
                  </a:lnTo>
                  <a:lnTo>
                    <a:pt x="1033" y="1453"/>
                  </a:lnTo>
                  <a:lnTo>
                    <a:pt x="1040" y="1900"/>
                  </a:lnTo>
                  <a:lnTo>
                    <a:pt x="1040" y="5015"/>
                  </a:lnTo>
                  <a:lnTo>
                    <a:pt x="661" y="5015"/>
                  </a:lnTo>
                  <a:lnTo>
                    <a:pt x="661" y="2333"/>
                  </a:lnTo>
                  <a:lnTo>
                    <a:pt x="659" y="2109"/>
                  </a:lnTo>
                  <a:lnTo>
                    <a:pt x="652" y="1928"/>
                  </a:lnTo>
                  <a:lnTo>
                    <a:pt x="641" y="1774"/>
                  </a:lnTo>
                  <a:lnTo>
                    <a:pt x="628" y="1676"/>
                  </a:lnTo>
                  <a:lnTo>
                    <a:pt x="608" y="1579"/>
                  </a:lnTo>
                  <a:lnTo>
                    <a:pt x="584" y="1523"/>
                  </a:lnTo>
                  <a:lnTo>
                    <a:pt x="558" y="1495"/>
                  </a:lnTo>
                  <a:lnTo>
                    <a:pt x="531" y="1481"/>
                  </a:lnTo>
                  <a:lnTo>
                    <a:pt x="498" y="1495"/>
                  </a:lnTo>
                  <a:lnTo>
                    <a:pt x="468" y="1537"/>
                  </a:lnTo>
                  <a:lnTo>
                    <a:pt x="441" y="1621"/>
                  </a:lnTo>
                  <a:lnTo>
                    <a:pt x="419" y="1732"/>
                  </a:lnTo>
                  <a:lnTo>
                    <a:pt x="399" y="1886"/>
                  </a:lnTo>
                  <a:lnTo>
                    <a:pt x="386" y="2096"/>
                  </a:lnTo>
                  <a:lnTo>
                    <a:pt x="379" y="2347"/>
                  </a:lnTo>
                  <a:lnTo>
                    <a:pt x="377" y="2668"/>
                  </a:lnTo>
                  <a:lnTo>
                    <a:pt x="377" y="5015"/>
                  </a:lnTo>
                  <a:lnTo>
                    <a:pt x="0" y="5015"/>
                  </a:lnTo>
                  <a:lnTo>
                    <a:pt x="0" y="112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12000" y="1792440"/>
              <a:ext cx="374760" cy="2433600"/>
            </a:xfrm>
            <a:custGeom>
              <a:avLst/>
              <a:gdLst/>
              <a:ahLst/>
              <a:rect l="l" t="t" r="r" b="b"/>
              <a:pathLst>
                <a:path w="1040" h="6762">
                  <a:moveTo>
                    <a:pt x="0" y="0"/>
                  </a:moveTo>
                  <a:lnTo>
                    <a:pt x="376" y="0"/>
                  </a:lnTo>
                  <a:lnTo>
                    <a:pt x="376" y="2486"/>
                  </a:lnTo>
                  <a:lnTo>
                    <a:pt x="414" y="2305"/>
                  </a:lnTo>
                  <a:lnTo>
                    <a:pt x="453" y="2151"/>
                  </a:lnTo>
                  <a:lnTo>
                    <a:pt x="488" y="2025"/>
                  </a:lnTo>
                  <a:lnTo>
                    <a:pt x="528" y="1914"/>
                  </a:lnTo>
                  <a:lnTo>
                    <a:pt x="567" y="1844"/>
                  </a:lnTo>
                  <a:lnTo>
                    <a:pt x="612" y="1788"/>
                  </a:lnTo>
                  <a:lnTo>
                    <a:pt x="656" y="1746"/>
                  </a:lnTo>
                  <a:lnTo>
                    <a:pt x="708" y="1746"/>
                  </a:lnTo>
                  <a:lnTo>
                    <a:pt x="779" y="1774"/>
                  </a:lnTo>
                  <a:lnTo>
                    <a:pt x="845" y="1858"/>
                  </a:lnTo>
                  <a:lnTo>
                    <a:pt x="903" y="2011"/>
                  </a:lnTo>
                  <a:lnTo>
                    <a:pt x="953" y="2221"/>
                  </a:lnTo>
                  <a:lnTo>
                    <a:pt x="990" y="2472"/>
                  </a:lnTo>
                  <a:lnTo>
                    <a:pt x="1017" y="2808"/>
                  </a:lnTo>
                  <a:lnTo>
                    <a:pt x="1033" y="3199"/>
                  </a:lnTo>
                  <a:lnTo>
                    <a:pt x="1039" y="3646"/>
                  </a:lnTo>
                  <a:lnTo>
                    <a:pt x="1039" y="6761"/>
                  </a:lnTo>
                  <a:lnTo>
                    <a:pt x="661" y="6761"/>
                  </a:lnTo>
                  <a:lnTo>
                    <a:pt x="661" y="4079"/>
                  </a:lnTo>
                  <a:lnTo>
                    <a:pt x="658" y="3855"/>
                  </a:lnTo>
                  <a:lnTo>
                    <a:pt x="652" y="3674"/>
                  </a:lnTo>
                  <a:lnTo>
                    <a:pt x="641" y="3520"/>
                  </a:lnTo>
                  <a:lnTo>
                    <a:pt x="627" y="3422"/>
                  </a:lnTo>
                  <a:lnTo>
                    <a:pt x="607" y="3325"/>
                  </a:lnTo>
                  <a:lnTo>
                    <a:pt x="585" y="3269"/>
                  </a:lnTo>
                  <a:lnTo>
                    <a:pt x="557" y="3241"/>
                  </a:lnTo>
                  <a:lnTo>
                    <a:pt x="531" y="3227"/>
                  </a:lnTo>
                  <a:lnTo>
                    <a:pt x="497" y="3241"/>
                  </a:lnTo>
                  <a:lnTo>
                    <a:pt x="468" y="3283"/>
                  </a:lnTo>
                  <a:lnTo>
                    <a:pt x="442" y="3367"/>
                  </a:lnTo>
                  <a:lnTo>
                    <a:pt x="419" y="3478"/>
                  </a:lnTo>
                  <a:lnTo>
                    <a:pt x="399" y="3632"/>
                  </a:lnTo>
                  <a:lnTo>
                    <a:pt x="385" y="3842"/>
                  </a:lnTo>
                  <a:lnTo>
                    <a:pt x="379" y="4093"/>
                  </a:lnTo>
                  <a:lnTo>
                    <a:pt x="376" y="4414"/>
                  </a:lnTo>
                  <a:lnTo>
                    <a:pt x="376" y="6761"/>
                  </a:lnTo>
                  <a:lnTo>
                    <a:pt x="0" y="67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51920" y="2421000"/>
              <a:ext cx="407880" cy="1846080"/>
            </a:xfrm>
            <a:custGeom>
              <a:avLst/>
              <a:gdLst/>
              <a:ahLst/>
              <a:rect l="l" t="t" r="r" b="b"/>
              <a:pathLst>
                <a:path w="1132" h="5128">
                  <a:moveTo>
                    <a:pt x="379" y="2570"/>
                  </a:moveTo>
                  <a:lnTo>
                    <a:pt x="381" y="2878"/>
                  </a:lnTo>
                  <a:lnTo>
                    <a:pt x="392" y="3143"/>
                  </a:lnTo>
                  <a:lnTo>
                    <a:pt x="407" y="3353"/>
                  </a:lnTo>
                  <a:lnTo>
                    <a:pt x="432" y="3548"/>
                  </a:lnTo>
                  <a:lnTo>
                    <a:pt x="460" y="3688"/>
                  </a:lnTo>
                  <a:lnTo>
                    <a:pt x="493" y="3786"/>
                  </a:lnTo>
                  <a:lnTo>
                    <a:pt x="526" y="3842"/>
                  </a:lnTo>
                  <a:lnTo>
                    <a:pt x="566" y="3856"/>
                  </a:lnTo>
                  <a:lnTo>
                    <a:pt x="605" y="3842"/>
                  </a:lnTo>
                  <a:lnTo>
                    <a:pt x="641" y="3786"/>
                  </a:lnTo>
                  <a:lnTo>
                    <a:pt x="672" y="3688"/>
                  </a:lnTo>
                  <a:lnTo>
                    <a:pt x="702" y="3548"/>
                  </a:lnTo>
                  <a:lnTo>
                    <a:pt x="722" y="3367"/>
                  </a:lnTo>
                  <a:lnTo>
                    <a:pt x="739" y="3143"/>
                  </a:lnTo>
                  <a:lnTo>
                    <a:pt x="748" y="2878"/>
                  </a:lnTo>
                  <a:lnTo>
                    <a:pt x="753" y="2570"/>
                  </a:lnTo>
                  <a:lnTo>
                    <a:pt x="748" y="2263"/>
                  </a:lnTo>
                  <a:lnTo>
                    <a:pt x="739" y="2012"/>
                  </a:lnTo>
                  <a:lnTo>
                    <a:pt x="722" y="1788"/>
                  </a:lnTo>
                  <a:lnTo>
                    <a:pt x="702" y="1621"/>
                  </a:lnTo>
                  <a:lnTo>
                    <a:pt x="672" y="1467"/>
                  </a:lnTo>
                  <a:lnTo>
                    <a:pt x="641" y="1369"/>
                  </a:lnTo>
                  <a:lnTo>
                    <a:pt x="605" y="1313"/>
                  </a:lnTo>
                  <a:lnTo>
                    <a:pt x="568" y="1299"/>
                  </a:lnTo>
                  <a:lnTo>
                    <a:pt x="528" y="1313"/>
                  </a:lnTo>
                  <a:lnTo>
                    <a:pt x="493" y="1369"/>
                  </a:lnTo>
                  <a:lnTo>
                    <a:pt x="460" y="1467"/>
                  </a:lnTo>
                  <a:lnTo>
                    <a:pt x="432" y="1621"/>
                  </a:lnTo>
                  <a:lnTo>
                    <a:pt x="407" y="1788"/>
                  </a:lnTo>
                  <a:lnTo>
                    <a:pt x="392" y="2012"/>
                  </a:lnTo>
                  <a:lnTo>
                    <a:pt x="381" y="2277"/>
                  </a:lnTo>
                  <a:lnTo>
                    <a:pt x="379" y="2570"/>
                  </a:lnTo>
                  <a:close/>
                  <a:moveTo>
                    <a:pt x="0" y="2584"/>
                  </a:moveTo>
                  <a:lnTo>
                    <a:pt x="9" y="2040"/>
                  </a:lnTo>
                  <a:lnTo>
                    <a:pt x="38" y="1565"/>
                  </a:lnTo>
                  <a:lnTo>
                    <a:pt x="85" y="1118"/>
                  </a:lnTo>
                  <a:lnTo>
                    <a:pt x="152" y="726"/>
                  </a:lnTo>
                  <a:lnTo>
                    <a:pt x="233" y="405"/>
                  </a:lnTo>
                  <a:lnTo>
                    <a:pt x="330" y="182"/>
                  </a:lnTo>
                  <a:lnTo>
                    <a:pt x="439" y="56"/>
                  </a:lnTo>
                  <a:lnTo>
                    <a:pt x="562" y="0"/>
                  </a:lnTo>
                  <a:lnTo>
                    <a:pt x="702" y="56"/>
                  </a:lnTo>
                  <a:lnTo>
                    <a:pt x="823" y="210"/>
                  </a:lnTo>
                  <a:lnTo>
                    <a:pt x="925" y="475"/>
                  </a:lnTo>
                  <a:lnTo>
                    <a:pt x="1010" y="852"/>
                  </a:lnTo>
                  <a:lnTo>
                    <a:pt x="1061" y="1215"/>
                  </a:lnTo>
                  <a:lnTo>
                    <a:pt x="1100" y="1621"/>
                  </a:lnTo>
                  <a:lnTo>
                    <a:pt x="1122" y="2068"/>
                  </a:lnTo>
                  <a:lnTo>
                    <a:pt x="1131" y="2557"/>
                  </a:lnTo>
                  <a:lnTo>
                    <a:pt x="1120" y="3087"/>
                  </a:lnTo>
                  <a:lnTo>
                    <a:pt x="1093" y="3576"/>
                  </a:lnTo>
                  <a:lnTo>
                    <a:pt x="1046" y="4023"/>
                  </a:lnTo>
                  <a:lnTo>
                    <a:pt x="981" y="4415"/>
                  </a:lnTo>
                  <a:lnTo>
                    <a:pt x="898" y="4722"/>
                  </a:lnTo>
                  <a:lnTo>
                    <a:pt x="799" y="4945"/>
                  </a:lnTo>
                  <a:lnTo>
                    <a:pt x="689" y="5071"/>
                  </a:lnTo>
                  <a:lnTo>
                    <a:pt x="564" y="5127"/>
                  </a:lnTo>
                  <a:lnTo>
                    <a:pt x="450" y="5085"/>
                  </a:lnTo>
                  <a:lnTo>
                    <a:pt x="347" y="4973"/>
                  </a:lnTo>
                  <a:lnTo>
                    <a:pt x="258" y="4792"/>
                  </a:lnTo>
                  <a:lnTo>
                    <a:pt x="179" y="4526"/>
                  </a:lnTo>
                  <a:lnTo>
                    <a:pt x="101" y="4135"/>
                  </a:lnTo>
                  <a:lnTo>
                    <a:pt x="44" y="3674"/>
                  </a:lnTo>
                  <a:lnTo>
                    <a:pt x="11" y="3157"/>
                  </a:lnTo>
                  <a:lnTo>
                    <a:pt x="0" y="2584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119700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um dia de tempestad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34120"/>
            <a:ext cx="8534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...ia um soldado chamado Martinho montado no seu cava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90920" y="2057400"/>
          <a:ext cx="2981160" cy="34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057400"/>
                    <a:ext cx="29811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0" y="1272960"/>
            <a:ext cx="4724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 caminh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410080"/>
            <a:ext cx="8229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...estava um mendigo quase nu e cheio de f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2743200"/>
          <a:ext cx="220500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743200"/>
                    <a:ext cx="2205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8600" y="5334120"/>
            <a:ext cx="815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... pôs carinhosamente a mão na do pobre e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2209680"/>
          <a:ext cx="238428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209680"/>
                    <a:ext cx="23842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048120" y="1295280"/>
          <a:ext cx="2579400" cy="427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295280"/>
                    <a:ext cx="25794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562720" y="990720"/>
            <a:ext cx="35812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O soldado quando viu o pobre teve pena del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96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554688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...cortou a sua capa, com a espada e deu metade ao mendi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2438280"/>
          <a:ext cx="167652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438280"/>
                    <a:ext cx="1676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791320" y="1295280"/>
          <a:ext cx="3352680" cy="328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295280"/>
                    <a:ext cx="33526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80880" y="1295280"/>
            <a:ext cx="6705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...o S. Martinho não hesitou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29000" y="1828800"/>
          <a:ext cx="2290680" cy="340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1828800"/>
                    <a:ext cx="229068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144000" cy="696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600200" y="1676520"/>
          <a:ext cx="270684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676520"/>
                    <a:ext cx="2706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724280" y="1219320"/>
            <a:ext cx="35816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ssim com metade da capa do S. Martinho, o mendigo já caminhou mais quentin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-50760"/>
          <a:ext cx="9144000" cy="696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0760"/>
                    <a:ext cx="9144000" cy="69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09480" y="762120"/>
            <a:ext cx="8229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2286000"/>
          <a:ext cx="274320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27432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676520" y="-304920"/>
          <a:ext cx="2438280" cy="22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-304920"/>
                    <a:ext cx="24382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5410080"/>
            <a:ext cx="8839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...um sol de Estio muito quentinho apareceu e a tempestade  par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533520"/>
            <a:ext cx="388620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ando S. Martinho seguia o seu caminho mal agasalhado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914400" y="0"/>
            <a:ext cx="7315200" cy="6629400"/>
            <a:chOff x="914400" y="0"/>
            <a:chExt cx="7315200" cy="6629400"/>
          </a:xfrm>
        </p:grpSpPr>
        <p:sp>
          <p:nvSpPr>
            <p:cNvPr id="112" name=""/>
            <p:cNvSpPr/>
            <p:nvPr/>
          </p:nvSpPr>
          <p:spPr>
            <a:xfrm>
              <a:off x="914400" y="0"/>
              <a:ext cx="7315200" cy="6629400"/>
            </a:xfrm>
            <a:custGeom>
              <a:avLst/>
              <a:gdLst/>
              <a:ahLst/>
              <a:rect l="l" t="t" r="r" b="b"/>
              <a:pathLst>
                <a:path w="20322" h="18417">
                  <a:moveTo>
                    <a:pt x="0" y="3453"/>
                  </a:moveTo>
                  <a:cubicBezTo>
                    <a:pt x="0" y="2877"/>
                    <a:pt x="575" y="2302"/>
                    <a:pt x="1151" y="2302"/>
                  </a:cubicBezTo>
                  <a:lnTo>
                    <a:pt x="18019" y="2302"/>
                  </a:lnTo>
                  <a:lnTo>
                    <a:pt x="18019" y="1151"/>
                  </a:lnTo>
                  <a:cubicBezTo>
                    <a:pt x="18019" y="575"/>
                    <a:pt x="18594" y="0"/>
                    <a:pt x="19170" y="0"/>
                  </a:cubicBezTo>
                  <a:cubicBezTo>
                    <a:pt x="19745" y="0"/>
                    <a:pt x="20321" y="575"/>
                    <a:pt x="20321" y="1151"/>
                  </a:cubicBezTo>
                  <a:lnTo>
                    <a:pt x="20321" y="14963"/>
                  </a:lnTo>
                  <a:cubicBezTo>
                    <a:pt x="20321" y="15538"/>
                    <a:pt x="19745" y="16114"/>
                    <a:pt x="19170" y="16114"/>
                  </a:cubicBezTo>
                  <a:lnTo>
                    <a:pt x="2302" y="16114"/>
                  </a:lnTo>
                  <a:lnTo>
                    <a:pt x="2302" y="17265"/>
                  </a:lnTo>
                  <a:cubicBezTo>
                    <a:pt x="2302" y="17840"/>
                    <a:pt x="1726" y="18416"/>
                    <a:pt x="1151" y="18416"/>
                  </a:cubicBezTo>
                  <a:cubicBezTo>
                    <a:pt x="575" y="18416"/>
                    <a:pt x="0" y="17840"/>
                    <a:pt x="0" y="17265"/>
                  </a:cubicBezTo>
                  <a:lnTo>
                    <a:pt x="0" y="3453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8760" y="1035000"/>
              <a:ext cx="414360" cy="622440"/>
            </a:xfrm>
            <a:custGeom>
              <a:avLst/>
              <a:gdLst/>
              <a:ahLst/>
              <a:rect l="l" t="t" r="r" b="b"/>
              <a:pathLst>
                <a:path w="1152" h="1728">
                  <a:moveTo>
                    <a:pt x="0" y="576"/>
                  </a:moveTo>
                  <a:cubicBezTo>
                    <a:pt x="0" y="288"/>
                    <a:pt x="287" y="0"/>
                    <a:pt x="575" y="0"/>
                  </a:cubicBezTo>
                  <a:cubicBezTo>
                    <a:pt x="863" y="0"/>
                    <a:pt x="1151" y="288"/>
                    <a:pt x="1151" y="576"/>
                  </a:cubicBezTo>
                  <a:cubicBezTo>
                    <a:pt x="1151" y="1151"/>
                    <a:pt x="575" y="1727"/>
                    <a:pt x="0" y="1727"/>
                  </a:cubicBezTo>
                  <a:lnTo>
                    <a:pt x="0" y="576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00880" y="0"/>
              <a:ext cx="828720" cy="828720"/>
            </a:xfrm>
            <a:custGeom>
              <a:avLst/>
              <a:gdLst/>
              <a:ahLst/>
              <a:rect l="l" t="t" r="r" b="b"/>
              <a:pathLst>
                <a:path w="2303" h="2303">
                  <a:moveTo>
                    <a:pt x="1151" y="1151"/>
                  </a:moveTo>
                  <a:cubicBezTo>
                    <a:pt x="1151" y="1438"/>
                    <a:pt x="863" y="1726"/>
                    <a:pt x="575" y="1726"/>
                  </a:cubicBezTo>
                  <a:cubicBezTo>
                    <a:pt x="287" y="1726"/>
                    <a:pt x="0" y="1438"/>
                    <a:pt x="0" y="1151"/>
                  </a:cubicBezTo>
                  <a:cubicBezTo>
                    <a:pt x="0" y="575"/>
                    <a:pt x="575" y="0"/>
                    <a:pt x="1151" y="0"/>
                  </a:cubicBezTo>
                  <a:cubicBezTo>
                    <a:pt x="1726" y="0"/>
                    <a:pt x="2302" y="575"/>
                    <a:pt x="2302" y="1151"/>
                  </a:cubicBezTo>
                  <a:cubicBezTo>
                    <a:pt x="2302" y="1726"/>
                    <a:pt x="1726" y="2302"/>
                    <a:pt x="1151" y="2302"/>
                  </a:cubicBezTo>
                  <a:lnTo>
                    <a:pt x="1151" y="1151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1243080"/>
              <a:ext cx="414360" cy="41436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1151" y="1151"/>
                  </a:moveTo>
                  <a:cubicBezTo>
                    <a:pt x="575" y="1151"/>
                    <a:pt x="0" y="57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399080" y="828720"/>
              <a:ext cx="41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3120" y="1243080"/>
              <a:ext cx="1440" cy="49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05120" y="1371600"/>
            <a:ext cx="609588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ara toda a gente se lembrar desta boa acção, o frio cessa e aparece sempre nesta época um sol maravilho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r isso chamamos o Verão de S.Martinh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B1 de Lameiras</dc:creator>
  <dc:description>História em pwp do São Martinho</dc:description>
  <dc:language>en-US</dc:language>
  <cp:lastModifiedBy>op</cp:lastModifiedBy>
  <cp:revision>0</cp:revision>
  <dc:subject/>
  <dc:title>Apresentação do PowerPoint</dc:title>
</cp:coreProperties>
</file>