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gif" ContentType="image/gif"/>
  <Override PartName="/ppt/media/image8.gif" ContentType="image/gif"/>
  <Override PartName="/ppt/media/image12.jpeg" ContentType="image/jpeg"/>
  <Override PartName="/ppt/media/image10.gif" ContentType="image/gif"/>
  <Override PartName="/ppt/media/image6.png" ContentType="image/png"/>
  <Override PartName="/ppt/media/image26.gif" ContentType="image/gif"/>
  <Override PartName="/ppt/media/image5.gif" ContentType="image/gif"/>
  <Override PartName="/ppt/media/image28.gif" ContentType="image/gif"/>
  <Override PartName="/ppt/media/image7.wmf" ContentType="image/x-wmf"/>
  <Override PartName="/ppt/media/image20.jpeg" ContentType="image/jpeg"/>
  <Override PartName="/ppt/media/image4.gif" ContentType="image/gif"/>
  <Override PartName="/ppt/media/image3.png" ContentType="image/png"/>
  <Override PartName="/ppt/media/image17.jpeg" ContentType="image/jpeg"/>
  <Override PartName="/ppt/media/image27.jpeg" ContentType="image/jpeg"/>
  <Override PartName="/ppt/media/image25.gif" ContentType="image/gif"/>
  <Override PartName="/ppt/media/image24.gif" ContentType="image/gif"/>
  <Override PartName="/ppt/media/image21.jpeg" ContentType="image/jpeg"/>
  <Override PartName="/ppt/media/image22.wmf" ContentType="image/x-wmf"/>
  <Override PartName="/ppt/media/image18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9.jpeg" ContentType="image/jpeg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5.gif"/><Relationship Id="rId8" Type="http://schemas.openxmlformats.org/officeDocument/2006/relationships/image" Target="../media/image13.gif"/><Relationship Id="rId9" Type="http://schemas.openxmlformats.org/officeDocument/2006/relationships/image" Target="../media/image24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8.gif"/><Relationship Id="rId25" Type="http://schemas.openxmlformats.org/officeDocument/2006/relationships/image" Target="../media/image2.png"/><Relationship Id="rId26" Type="http://schemas.openxmlformats.org/officeDocument/2006/relationships/hyperlink" Target="http://images.google.pt/imgres?imgurl=http://www.bebcommunity.it/vari/italia.gif&amp;imgrefurl=http://www.bebcommunity.it/&amp;h=310&amp;w=260&amp;sz=10&amp;hl=pt-PT&amp;start=34&amp;tbnid=DlWAr3ToAVT4RM:&amp;tbnh=117&amp;tbnw=98&amp;prev=/images%3Fq%3Dit%25C3%25A1lia%26start%3D20%26ndsp%3D20%26svnum%3D10%26hl%3Dpt-PT%26lr%3D%26sa%3DN" TargetMode="External"/><Relationship Id="rId27" Type="http://schemas.openxmlformats.org/officeDocument/2006/relationships/image" Target="../media/image9.jpeg"/><Relationship Id="rId28" Type="http://schemas.openxmlformats.org/officeDocument/2006/relationships/image" Target="../media/image10.gif"/><Relationship Id="rId29" Type="http://schemas.openxmlformats.org/officeDocument/2006/relationships/image" Target="../media/image11.gif"/><Relationship Id="rId30" Type="http://schemas.openxmlformats.org/officeDocument/2006/relationships/image" Target="../media/image8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8.gif"/><Relationship Id="rId34" Type="http://schemas.openxmlformats.org/officeDocument/2006/relationships/image" Target="../media/image8.gif"/><Relationship Id="rId35" Type="http://schemas.openxmlformats.org/officeDocument/2006/relationships/image" Target="../media/image8.gif"/><Relationship Id="rId36" Type="http://schemas.openxmlformats.org/officeDocument/2006/relationships/image" Target="../media/image11.gif"/><Relationship Id="rId37" Type="http://schemas.openxmlformats.org/officeDocument/2006/relationships/image" Target="../media/image8.gif"/><Relationship Id="rId3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2.png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image" Target="../media/image16.gif"/><Relationship Id="rId1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2.png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790560" y="6054840"/>
            <a:ext cx="71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16000" y="1557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Lenda de São Martin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03280" y="77472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esar de mal agasalhado e  a chover torrencialmente, Martinho continuou o seu caminho, cheio de felicidad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tão, o bom Deus  , ao presenciar este  gesto, fez desaparecer a  tempestade. O céu ficou límpido e surgiu um sol de estio, cheio de luz e calor. Nos três  dias que ainda  durou a  viagem, um  Sol radioso  acompanhou o gener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292720" y="479736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51280" y="4653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227640" y="394164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022800" y="465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651640" y="4818240"/>
            <a:ext cx="4103640" cy="234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7812000" y="26028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788000" y="4365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2195640" y="4581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172872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596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dos os anos, em Novembro, somos presenteados com, pelo menos, três  magníficos dias de Sol , para que a  memória dos homens, tantas vezes curta não se esqueça do gesto que  salvou a  vida ao  mendigo. – É  o Verão de S. Martin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60436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199280" y="404640"/>
            <a:ext cx="1944720" cy="1549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1450800" cy="191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32000" y="2565360"/>
            <a:ext cx="555012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18720"/>
            <a:ext cx="7470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ndy Cane (Unregistered)"/>
              </a:rPr>
              <a:t>Fi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43280" y="189000"/>
            <a:ext cx="424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á festa na esco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úsica Apita ao Combo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476280"/>
            <a:ext cx="29509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em as castan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á no castanh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ro a apanhá-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ão gasto dinh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fr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lha o S. Mart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 Sol a espre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ma fogueirin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ca a feste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1432080"/>
            <a:ext cx="29509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e lindas que 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o lume est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mos lá meni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mos lá pro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fr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á festa na es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mos lá ca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ar as castan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 depois brin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931000" y="4575240"/>
            <a:ext cx="3213000" cy="2654280"/>
            <a:chOff x="5931000" y="4575240"/>
            <a:chExt cx="3213000" cy="2654280"/>
          </a:xfrm>
        </p:grpSpPr>
        <p:sp>
          <p:nvSpPr>
            <p:cNvPr id="164" name=""/>
            <p:cNvSpPr/>
            <p:nvPr/>
          </p:nvSpPr>
          <p:spPr>
            <a:xfrm>
              <a:off x="5931000" y="4575240"/>
              <a:ext cx="3213000" cy="2282760"/>
            </a:xfrm>
            <a:prstGeom prst="roundRect">
              <a:avLst>
                <a:gd name="adj" fmla="val 69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31000" y="4575240"/>
              <a:ext cx="3213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Ref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astanhas quentin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Que boas que s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uidado meni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ão queimem a m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67564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260280"/>
            <a:ext cx="8280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86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rtinho nasceu no ano de 316, em Sabária ( actual Hungria 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40920" cy="4929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1406520" cy="28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17080" y="126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0" y="380880"/>
            <a:ext cx="8870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86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seu pai era soldado do exército Roma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74520" y="18842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3840" y="18842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62200" y="17398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102200" y="17398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14920" y="18129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054920" y="16686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867280" y="3821040"/>
            <a:ext cx="327024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4200" y="5484960"/>
            <a:ext cx="54374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263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deu-lhe uma educação Crist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435600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7596360" y="3357720"/>
            <a:ext cx="154764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57800" y="251136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29080" y="287172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545080" y="308772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362560" y="306864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156360" y="3139920"/>
            <a:ext cx="826920" cy="124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068720" y="239868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81440" y="263520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897440" y="285120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113440" y="3067200"/>
            <a:ext cx="105228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5329080" y="328284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5508720" y="3645000"/>
            <a:ext cx="1004760" cy="1511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3852720" y="249228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068720" y="270828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4284720" y="2924280"/>
            <a:ext cx="1052280" cy="1582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4500720" y="3139920"/>
            <a:ext cx="1052280" cy="158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7"/>
          <a:stretch/>
        </p:blipFill>
        <p:spPr>
          <a:xfrm>
            <a:off x="4716360" y="335592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8"/>
          <a:stretch/>
        </p:blipFill>
        <p:spPr>
          <a:xfrm>
            <a:off x="4716360" y="313992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9"/>
          <a:stretch/>
        </p:blipFill>
        <p:spPr>
          <a:xfrm>
            <a:off x="3314880" y="2655720"/>
            <a:ext cx="1052280" cy="158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0"/>
          <a:stretch/>
        </p:blipFill>
        <p:spPr>
          <a:xfrm>
            <a:off x="3530520" y="287172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1"/>
          <a:stretch/>
        </p:blipFill>
        <p:spPr>
          <a:xfrm>
            <a:off x="3746520" y="308772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2"/>
          <a:stretch/>
        </p:blipFill>
        <p:spPr>
          <a:xfrm>
            <a:off x="3962520" y="3303720"/>
            <a:ext cx="1052280" cy="158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3"/>
          <a:stretch/>
        </p:blipFill>
        <p:spPr>
          <a:xfrm>
            <a:off x="3995640" y="3645000"/>
            <a:ext cx="1052640" cy="158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4"/>
          <a:stretch/>
        </p:blipFill>
        <p:spPr>
          <a:xfrm>
            <a:off x="4859280" y="4076640"/>
            <a:ext cx="684360" cy="1028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404640"/>
            <a:ext cx="74883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os 15 anos Martinho foi par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áli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 alistou-se no exército Romano, tornando-se mais tarde num corajoso general rico e podero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860436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0" y="2565360"/>
            <a:ext cx="3457440" cy="4292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8"/>
          <a:stretch/>
        </p:blipFill>
        <p:spPr>
          <a:xfrm>
            <a:off x="5867280" y="4375080"/>
            <a:ext cx="3621240" cy="2482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9"/>
          <a:stretch/>
        </p:blipFill>
        <p:spPr>
          <a:xfrm>
            <a:off x="5940360" y="6083280"/>
            <a:ext cx="1224000" cy="77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0"/>
          <a:stretch/>
        </p:blipFill>
        <p:spPr>
          <a:xfrm>
            <a:off x="2448000" y="2851200"/>
            <a:ext cx="1052280" cy="158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1"/>
          <a:stretch/>
        </p:blipFill>
        <p:spPr>
          <a:xfrm>
            <a:off x="2809800" y="301608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2"/>
          <a:stretch/>
        </p:blipFill>
        <p:spPr>
          <a:xfrm>
            <a:off x="3025800" y="3232080"/>
            <a:ext cx="1052640" cy="158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3"/>
          <a:stretch/>
        </p:blipFill>
        <p:spPr>
          <a:xfrm>
            <a:off x="2843280" y="3213000"/>
            <a:ext cx="1052280" cy="158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4"/>
          <a:stretch/>
        </p:blipFill>
        <p:spPr>
          <a:xfrm>
            <a:off x="3059280" y="3429000"/>
            <a:ext cx="1052280" cy="158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5"/>
          <a:stretch/>
        </p:blipFill>
        <p:spPr>
          <a:xfrm>
            <a:off x="3635280" y="4148280"/>
            <a:ext cx="684360" cy="102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6"/>
          <a:stretch/>
        </p:blipFill>
        <p:spPr>
          <a:xfrm>
            <a:off x="8136000" y="6219720"/>
            <a:ext cx="1008000" cy="6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7"/>
          <a:stretch/>
        </p:blipFill>
        <p:spPr>
          <a:xfrm>
            <a:off x="0" y="2276640"/>
            <a:ext cx="68436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8209080" cy="645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58000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43280" y="47847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2349360"/>
            <a:ext cx="30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m dia, de regresso a casa, cavalgava debaixo de forte tormenta. A chuva e o granizo caiam furiosamente, o vento, furioso, uivava e o frio parecia esmagar os os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0" y="333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907920"/>
            <a:ext cx="857160" cy="6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124000" y="1004760"/>
            <a:ext cx="1295640" cy="9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443640" y="3664080"/>
            <a:ext cx="3193920" cy="3193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227640" y="436392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778200" y="309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527280" y="453960"/>
            <a:ext cx="1513080" cy="116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4786200" y="1028880"/>
            <a:ext cx="857520" cy="657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5580000" y="333360"/>
            <a:ext cx="1295640" cy="993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6804000" y="836640"/>
            <a:ext cx="1295280" cy="993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2268360" y="4869000"/>
            <a:ext cx="3733920" cy="2284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7308720" y="882720"/>
            <a:ext cx="18352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419640" y="1989000"/>
            <a:ext cx="5724360" cy="4869000"/>
            <a:chOff x="3419640" y="1989000"/>
            <a:chExt cx="5724360" cy="48690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3565440" y="2214720"/>
              <a:ext cx="54291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419640" y="2065320"/>
              <a:ext cx="293400" cy="4792680"/>
            </a:xfrm>
            <a:custGeom>
              <a:avLst/>
              <a:gdLst>
                <a:gd name="textAreaLeft" fmla="*/ 360 w 293400"/>
                <a:gd name="textAreaRight" fmla="*/ 293040 w 293400"/>
                <a:gd name="textAreaTop" fmla="*/ 360 h 4792680"/>
                <a:gd name="textAreaBottom" fmla="*/ 4792320 h 4792680"/>
              </a:gdLst>
              <a:ahLst/>
              <a:rect l="textAreaLeft" t="textAreaTop" r="textAreaRight" b="textAreaBottom"/>
              <a:pathLst>
                <a:path w="21600" h="352429">
                  <a:moveTo>
                    <a:pt x="117" y="0"/>
                  </a:moveTo>
                  <a:arcTo wR="117" hR="117" stAng="16200000" swAng="-5400000"/>
                  <a:lnTo>
                    <a:pt x="0" y="352312"/>
                  </a:lnTo>
                  <a:arcTo wR="117" hR="117" stAng="10800000" swAng="-5400000"/>
                  <a:lnTo>
                    <a:pt x="21483" y="352429"/>
                  </a:lnTo>
                  <a:arcTo wR="117" hR="117" stAng="5400000" swAng="-5400000"/>
                  <a:lnTo>
                    <a:pt x="21600" y="117"/>
                  </a:lnTo>
                  <a:arcTo wR="117" hR="117" stAng="0" swAng="-5400000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50240" y="2122560"/>
              <a:ext cx="293760" cy="4719600"/>
            </a:xfrm>
            <a:custGeom>
              <a:avLst/>
              <a:gdLst>
                <a:gd name="textAreaLeft" fmla="*/ 360 w 293760"/>
                <a:gd name="textAreaRight" fmla="*/ 293400 w 293760"/>
                <a:gd name="textAreaTop" fmla="*/ 360 h 4719600"/>
                <a:gd name="textAreaBottom" fmla="*/ 4719240 h 4719600"/>
              </a:gdLst>
              <a:ahLst/>
              <a:rect l="textAreaLeft" t="textAreaTop" r="textAreaRight" b="textAreaBottom"/>
              <a:pathLst>
                <a:path w="21600" h="346631">
                  <a:moveTo>
                    <a:pt x="117" y="0"/>
                  </a:moveTo>
                  <a:arcTo wR="117" hR="117" stAng="16200000" swAng="-5400000"/>
                  <a:lnTo>
                    <a:pt x="0" y="346514"/>
                  </a:lnTo>
                  <a:arcTo wR="117" hR="117" stAng="10800000" swAng="-5400000"/>
                  <a:lnTo>
                    <a:pt x="21483" y="346631"/>
                  </a:lnTo>
                  <a:arcTo wR="117" hR="117" stAng="5400000" swAng="-5400000"/>
                  <a:lnTo>
                    <a:pt x="21600" y="117"/>
                  </a:lnTo>
                  <a:arcTo wR="117" hR="117" stAng="0" swAng="-5400000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9640" y="1989000"/>
              <a:ext cx="5724360" cy="301680"/>
            </a:xfrm>
            <a:prstGeom prst="roundRect">
              <a:avLst>
                <a:gd name="adj" fmla="val 52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6483240"/>
              <a:ext cx="5724360" cy="374760"/>
            </a:xfrm>
            <a:prstGeom prst="roundRect">
              <a:avLst>
                <a:gd name="adj" fmla="val 42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1047960" cy="752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0"/>
            <a:ext cx="793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o longe, avistou um mendigo que, quase nu, se confundia com os troncos mirrados e enegrecidos na beira da estrada. Este, estendia um braço descarnado em busca de algum auxílio que o salvasse de uma morte cer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8390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1047960" cy="752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979640" y="2060640"/>
            <a:ext cx="1800360" cy="12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924360" y="2416320"/>
            <a:ext cx="482436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260280"/>
            <a:ext cx="81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 general ao ver o mendigo, ficou de  coração  apertado por tamanha desgraça e comoveu-se. Então, apeou-se do cavalo e passou a sua mão carinhosamente pela do p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604360" y="1916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2553" r="0" b="7951"/>
          <a:stretch/>
        </p:blipFill>
        <p:spPr>
          <a:xfrm>
            <a:off x="1835280" y="1773360"/>
            <a:ext cx="554328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5140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m seguida, desprendeu a espessa e quente capa que o protegia e, com um golpe seguro de espada, dividiu-a em duas par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5280" y="2133720"/>
            <a:ext cx="8210520" cy="4543200"/>
            <a:chOff x="395280" y="2133720"/>
            <a:chExt cx="8210520" cy="4543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387680" y="3165480"/>
              <a:ext cx="4240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695160" y="2282760"/>
              <a:ext cx="7750440" cy="42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95280" y="2133720"/>
              <a:ext cx="501480" cy="4535280"/>
            </a:xfrm>
            <a:custGeom>
              <a:avLst/>
              <a:gdLst>
                <a:gd name="textAreaLeft" fmla="*/ 360 w 501480"/>
                <a:gd name="textAreaRight" fmla="*/ 501120 w 501480"/>
                <a:gd name="textAreaTop" fmla="*/ 360 h 4535280"/>
                <a:gd name="textAreaBottom" fmla="*/ 4534920 h 4535280"/>
              </a:gdLst>
              <a:ahLst/>
              <a:rect l="textAreaLeft" t="textAreaTop" r="textAreaRight" b="textAreaBottom"/>
              <a:pathLst>
                <a:path w="21600" h="195221">
                  <a:moveTo>
                    <a:pt x="68" y="0"/>
                  </a:moveTo>
                  <a:arcTo wR="68" hR="68" stAng="16200000" swAng="-5400000"/>
                  <a:lnTo>
                    <a:pt x="0" y="195153"/>
                  </a:lnTo>
                  <a:arcTo wR="68" hR="68" stAng="10800000" swAng="-5400000"/>
                  <a:lnTo>
                    <a:pt x="21532" y="195221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04320" y="2141640"/>
              <a:ext cx="501480" cy="4535280"/>
            </a:xfrm>
            <a:custGeom>
              <a:avLst/>
              <a:gdLst>
                <a:gd name="textAreaLeft" fmla="*/ 360 w 501480"/>
                <a:gd name="textAreaRight" fmla="*/ 501120 w 501480"/>
                <a:gd name="textAreaTop" fmla="*/ 360 h 4535280"/>
                <a:gd name="textAreaBottom" fmla="*/ 4534920 h 4535280"/>
              </a:gdLst>
              <a:ahLst/>
              <a:rect l="textAreaLeft" t="textAreaTop" r="textAreaRight" b="textAreaBottom"/>
              <a:pathLst>
                <a:path w="21600" h="195221">
                  <a:moveTo>
                    <a:pt x="68" y="0"/>
                  </a:moveTo>
                  <a:arcTo wR="68" hR="68" stAng="16200000" swAng="-5400000"/>
                  <a:lnTo>
                    <a:pt x="0" y="195153"/>
                  </a:lnTo>
                  <a:arcTo wR="68" hR="68" stAng="10800000" swAng="-5400000"/>
                  <a:lnTo>
                    <a:pt x="21532" y="195221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58800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3315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endeu uma das metades ao mendigo e agasalhou-se o melhor que pode com a restant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8000" y="7650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324000" y="2708280"/>
          <a:ext cx="2447640" cy="38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08280"/>
                    <a:ext cx="244764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732720" y="2637000"/>
          <a:ext cx="2195280" cy="38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637000"/>
                    <a:ext cx="219528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